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3.wmf" ContentType="image/x-wmf"/>
  <Override PartName="/ppt/media/image2.gif" ContentType="image/gif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0.png" ContentType="image/png"/>
  <Override PartName="/ppt/media/image5.wmf" ContentType="image/x-wmf"/>
  <Override PartName="/ppt/media/image4.wmf" ContentType="image/x-wmf"/>
  <Override PartName="/ppt/media/image24.wmf" ContentType="image/x-wmf"/>
  <Override PartName="/ppt/media/image23.jpeg" ContentType="image/jpeg"/>
  <Override PartName="/ppt/media/image22.wmf" ContentType="image/x-wmf"/>
  <Override PartName="/ppt/media/image11.png" ContentType="image/png"/>
  <Override PartName="/ppt/media/image20.png" ContentType="image/png"/>
  <Override PartName="/ppt/media/image3.png" ContentType="image/png"/>
  <Override PartName="/ppt/media/image2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5.wmf" ContentType="image/x-wmf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0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1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2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98C54-6A13-44DB-814B-8AB8D25D037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FD04A-8AF5-4385-A813-0360CB131C8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2120"/>
                <a:tab algn="l" pos="2898720"/>
                <a:tab algn="l" pos="3865680"/>
                <a:tab algn="l" pos="4832280"/>
                <a:tab algn="l" pos="5799240"/>
                <a:tab algn="l" pos="6765840"/>
                <a:tab algn="l" pos="7732800"/>
                <a:tab algn="l" pos="8699400"/>
                <a:tab algn="l" pos="9664560"/>
                <a:tab algn="l" pos="10631520"/>
              </a:tabLst>
            </a:pPr>
            <a:fld id="{640D6A74-A477-4405-97D5-7383883F0A8A}" type="slidenum">
              <a:rPr b="1" lang="es-ES" sz="1300" spc="-1" strike="noStrike" u="sng">
                <a:solidFill>
                  <a:srgbClr val="1f5281"/>
                </a:solidFill>
                <a:uFillTx/>
                <a:latin typeface="Arial"/>
              </a:rPr>
              <a:t>&lt;number&gt;</a:t>
            </a:fld>
            <a:endParaRPr b="1" lang="en-US" sz="13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2120"/>
                <a:tab algn="l" pos="2898720"/>
                <a:tab algn="l" pos="3865680"/>
                <a:tab algn="l" pos="4832280"/>
                <a:tab algn="l" pos="5799240"/>
                <a:tab algn="l" pos="6765840"/>
                <a:tab algn="l" pos="7732800"/>
                <a:tab algn="l" pos="8699400"/>
                <a:tab algn="l" pos="9664560"/>
                <a:tab algn="l" pos="10631520"/>
              </a:tabLst>
            </a:pPr>
            <a:fld id="{8C70F6E9-C07C-458F-A75E-D85920E93513}" type="slidenum">
              <a:rPr b="1" lang="es-ES" sz="1300" spc="-1" strike="noStrike" u="sng">
                <a:solidFill>
                  <a:srgbClr val="1f5281"/>
                </a:solidFill>
                <a:uFillTx/>
                <a:latin typeface="Arial"/>
              </a:rPr>
              <a:t>&lt;number&gt;</a:t>
            </a:fld>
            <a:endParaRPr b="1" lang="en-US" sz="13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73E19-27CD-43E8-AD94-BBA32AFECB4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019160" y="781200"/>
            <a:ext cx="5213520" cy="39099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25040" y="4951440"/>
            <a:ext cx="5800680" cy="46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0C00A-A85A-406E-B822-D8460228A5A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03CDF-4263-4B59-B32D-7990F5A3EE1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B925F-FDB8-44D3-A1BC-15AB14357F1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77C59-C29B-477A-B513-32F917D9F88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C5F15-D1AD-4C7B-97DF-6F6D28046FB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53601-B2AF-4EDD-A93F-CFAB10497F9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7873E-7875-4958-943F-6EE4C57F821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8EE99-8C1D-4D97-A8CE-5C6E2615967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C94FF-7B4B-42AB-8A8D-C9628A32532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27125-BB3B-49AA-97F5-000747623F4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E2461-E75F-4AE0-AB0D-63FF7D45894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AFEFA-C99B-41B1-964F-F1F7B231F25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EFC2F-F10F-4FE2-A003-8C78850BA43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1AA5B-8840-46A6-93E8-728D0B846E0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8C598-EA8D-49FF-8EC0-D05EA320196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D68E4-13B5-470F-B020-A2C201953C5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542F-3E6D-4085-973E-377E9FAF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1802-50FF-4965-9D9F-2F486957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354C-7F91-4FE2-BD4E-7B426B50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39A6-C799-46B4-88A6-1FC447D07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B11779-200F-45E7-867B-E90F9903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068A1-94BB-4CCC-8534-CE91C067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9D3D0-DCDD-4A20-839C-3ECDC66E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40145-EC21-415D-B037-38807E7B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EA4DB-5D6B-4150-8DC9-DBEBCD78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E2124-2059-476C-AED8-89E4A721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5ABE1-3945-4FF3-A0BC-1896D734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3F6A-AD09-4E86-A629-11025F41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8D085-D728-4428-8E63-DFD02A18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A408D-18C6-4DE1-96FA-EA7CF4B2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B163A-36A3-4AB0-8660-50727BEB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A5126-9CFD-40B3-8338-93540C8F5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4A84B-CF57-42D9-9AEE-B06C64C66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32A0C-837C-4A55-BE53-21714459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7E163-5B8F-4728-83E8-3D193DB3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33922-0E3A-4290-8132-E747B1A4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B6FDA-8630-46B2-BD62-45536D21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1ED50-F8F7-4E28-AD4F-7620784A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4452-1701-422A-9A74-6D088B8A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56CE9-A536-4C9F-ADAA-F79BE2E3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03F8E-2BC0-4F59-ABE3-67D7AD48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025DE-3B95-43BA-8D29-A6167421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EF268-EC25-47EE-90B3-8C6958CC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D7EC9-9CAA-4F1F-B0FA-BB291CD4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43F45-9B51-403B-83EC-18AFEE53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F195A-62F7-4FAB-822F-0F8E14781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24F1-6E7E-4D21-AFAC-573F8C43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97A5-7785-46D7-9345-604A947D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2248-48EB-43CC-A6C1-BEB5167A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B62A-A0EB-495F-B15D-4D601112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D3B0-2ED2-4A7A-AFE3-BB99C222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73BC-FD91-4EF9-BE3E-1CAE1DC8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dbffb7"/>
            </a:gs>
            <a:gs pos="100000">
              <a:srgbClr val="66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3FFA-0A9E-4198-8460-0F9EEA1D34B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dbffb7"/>
            </a:gs>
            <a:gs pos="100000">
              <a:srgbClr val="66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21CB-80A7-4491-B67C-0502988B4E13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 u="sng">
                <a:solidFill>
                  <a:srgbClr val="000000"/>
                </a:solidFill>
                <a:uFillTx/>
                <a:latin typeface="Bookman Old Style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 u="sng">
                <a:solidFill>
                  <a:srgbClr val="000000"/>
                </a:solidFill>
                <a:uFillTx/>
                <a:latin typeface="Bookman Old Style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 u="sng">
                <a:solidFill>
                  <a:srgbClr val="000000"/>
                </a:solidFill>
                <a:uFillTx/>
                <a:latin typeface="Bookman Old Style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 u="sng">
                <a:solidFill>
                  <a:srgbClr val="000000"/>
                </a:solidFill>
                <a:uFillTx/>
                <a:latin typeface="Bookman Old Style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 u="sng">
                <a:solidFill>
                  <a:srgbClr val="000000"/>
                </a:solidFill>
                <a:uFillTx/>
                <a:latin typeface="Bookman Old Style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 u="sng">
                <a:solidFill>
                  <a:srgbClr val="000000"/>
                </a:solidFill>
                <a:uFillTx/>
                <a:latin typeface="Bookman Old Style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 u="sng">
                <a:solidFill>
                  <a:srgbClr val="000000"/>
                </a:solidFill>
                <a:uFillTx/>
                <a:latin typeface="Bookman Old Style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 u="sng">
                <a:solidFill>
                  <a:srgbClr val="000000"/>
                </a:solidFill>
                <a:uFillTx/>
                <a:latin typeface="Bookman Old Style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 u="sng">
                <a:solidFill>
                  <a:srgbClr val="000000"/>
                </a:solidFill>
                <a:uFillTx/>
                <a:latin typeface="Bookman Old Style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dbffb7"/>
            </a:gs>
            <a:gs pos="100000">
              <a:srgbClr val="66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 u="sng">
                <a:solidFill>
                  <a:srgbClr val="000000"/>
                </a:solidFill>
                <a:uFillTx/>
                <a:latin typeface="Bookman Old Style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 u="sng">
                <a:solidFill>
                  <a:srgbClr val="000000"/>
                </a:solidFill>
                <a:uFillTx/>
                <a:latin typeface="Bookman Old Style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 u="sng">
                  <a:solidFill>
                    <a:srgbClr val="000000"/>
                  </a:solidFill>
                  <a:uFillTx/>
                  <a:latin typeface="Bookman Old Style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 u="sng">
                  <a:solidFill>
                    <a:srgbClr val="000000"/>
                  </a:solidFill>
                  <a:uFillTx/>
                  <a:latin typeface="Bookman Old Style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 u="sng">
                  <a:solidFill>
                    <a:srgbClr val="000000"/>
                  </a:solidFill>
                  <a:uFillTx/>
                  <a:latin typeface="Bookman Old Style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 u="sng">
                  <a:solidFill>
                    <a:srgbClr val="000000"/>
                  </a:solidFill>
                  <a:uFillTx/>
                  <a:latin typeface="Bookman Old Style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 u="sng">
                  <a:solidFill>
                    <a:srgbClr val="000000"/>
                  </a:solidFill>
                  <a:uFillTx/>
                  <a:latin typeface="Bookman Old Style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 u="sng">
                  <a:solidFill>
                    <a:srgbClr val="000000"/>
                  </a:solidFill>
                  <a:uFillTx/>
                  <a:latin typeface="Bookman Old Style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 u="sng">
                  <a:solidFill>
                    <a:srgbClr val="000000"/>
                  </a:solidFill>
                  <a:uFillTx/>
                  <a:latin typeface="Bookman Old Style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 u="sng">
                  <a:solidFill>
                    <a:srgbClr val="000000"/>
                  </a:solidFill>
                  <a:uFillTx/>
                  <a:latin typeface="Bookman Old Style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 u="sng">
                  <a:solidFill>
                    <a:srgbClr val="000000"/>
                  </a:solidFill>
                  <a:uFillTx/>
                  <a:latin typeface="Bookman Old Style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 u="sng">
                  <a:solidFill>
                    <a:srgbClr val="000000"/>
                  </a:solidFill>
                  <a:uFillTx/>
                  <a:latin typeface="Bookman Old Style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192A-98C0-4C91-AEAA-3935BF28DD5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dbffb7"/>
            </a:gs>
            <a:gs pos="100000">
              <a:srgbClr val="66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 u="sng">
                <a:solidFill>
                  <a:srgbClr val="000000"/>
                </a:solidFill>
                <a:uFillTx/>
                <a:latin typeface="Bookman Old Style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 u="sng">
                <a:solidFill>
                  <a:srgbClr val="000000"/>
                </a:solidFill>
                <a:uFillTx/>
                <a:latin typeface="Bookman Old Style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 u="sng">
                <a:solidFill>
                  <a:srgbClr val="000000"/>
                </a:solidFill>
                <a:uFillTx/>
                <a:latin typeface="Bookman Old Style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 u="sng">
                <a:solidFill>
                  <a:srgbClr val="000000"/>
                </a:solidFill>
                <a:uFillTx/>
                <a:latin typeface="Bookman Old Style"/>
              </a:endParaRPr>
            </a:p>
          </p:txBody>
        </p:sp>
        <p:sp>
          <p:nvSpPr>
            <p:cNvPr id="15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 u="sng">
                <a:solidFill>
                  <a:srgbClr val="000000"/>
                </a:solidFill>
                <a:uFillTx/>
                <a:latin typeface="Bookman Old Style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 u="sng">
                <a:solidFill>
                  <a:srgbClr val="000000"/>
                </a:solidFill>
                <a:uFillTx/>
                <a:latin typeface="Bookman Old Style"/>
              </a:endParaRPr>
            </a:p>
          </p:txBody>
        </p:sp>
        <p:sp>
          <p:nvSpPr>
            <p:cNvPr id="15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 u="sng">
                <a:solidFill>
                  <a:srgbClr val="000000"/>
                </a:solidFill>
                <a:uFillTx/>
                <a:latin typeface="Bookman Old Style"/>
              </a:endParaRPr>
            </a:p>
          </p:txBody>
        </p:sp>
        <p:sp>
          <p:nvSpPr>
            <p:cNvPr id="15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 u="sng">
                <a:solidFill>
                  <a:srgbClr val="000000"/>
                </a:solidFill>
                <a:uFillTx/>
                <a:latin typeface="Bookman Old Style"/>
              </a:endParaRPr>
            </a:p>
          </p:txBody>
        </p:sp>
        <p:sp>
          <p:nvSpPr>
            <p:cNvPr id="15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 u="sng">
                <a:solidFill>
                  <a:srgbClr val="000000"/>
                </a:solidFill>
                <a:uFillTx/>
                <a:latin typeface="Bookman Old Style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wmf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image" Target="../media/image20.png"/><Relationship Id="rId7" Type="http://schemas.openxmlformats.org/officeDocument/2006/relationships/image" Target="../media/image18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4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21.wm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inaes.gov.ar/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dbffb7"/>
            </a:gs>
            <a:gs pos="100000">
              <a:srgbClr val="66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8713800" cy="2122560"/>
          </a:xfrm>
          <a:prstGeom prst="rect">
            <a:avLst/>
          </a:prstGeom>
          <a:ln w="0">
            <a:noFill/>
          </a:ln>
        </p:spPr>
      </p:pic>
      <p:sp>
        <p:nvSpPr>
          <p:cNvPr id="20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31B8-BFEC-4D7F-B159-420E255584F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dbffb7"/>
            </a:gs>
            <a:gs pos="100000">
              <a:srgbClr val="66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153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AR" sz="2600" spc="-1" strike="noStrike">
                <a:solidFill>
                  <a:srgbClr val="003300"/>
                </a:solidFill>
                <a:latin typeface="Arial"/>
              </a:rPr>
              <a:t>                  </a:t>
            </a:r>
            <a:r>
              <a:rPr b="0" lang="es-AR" sz="2600" spc="-1" strike="noStrike">
                <a:solidFill>
                  <a:srgbClr val="003300"/>
                </a:solidFill>
                <a:latin typeface="Arial"/>
              </a:rPr>
              <a:t>Mutuales c/Reglamentos de Ayuda    </a:t>
            </a:r>
            <a:r>
              <a:rPr b="0" lang="es-AR" sz="26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AR" sz="26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AR" sz="26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AR" sz="2600" spc="-1" strike="noStrike">
                <a:solidFill>
                  <a:srgbClr val="003300"/>
                </a:solidFill>
                <a:latin typeface="Arial"/>
              </a:rPr>
              <a:t>    Económica: 822 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35" name="Group 2"/>
          <p:cNvGrpSpPr/>
          <p:nvPr/>
        </p:nvGrpSpPr>
        <p:grpSpPr>
          <a:xfrm>
            <a:off x="128520" y="1282680"/>
            <a:ext cx="8863200" cy="5168880"/>
            <a:chOff x="128520" y="1282680"/>
            <a:chExt cx="8863200" cy="5168880"/>
          </a:xfrm>
        </p:grpSpPr>
        <p:graphicFrame>
          <p:nvGraphicFramePr>
            <p:cNvPr id="236" name="Object 3"/>
            <p:cNvGraphicFramePr/>
            <p:nvPr/>
          </p:nvGraphicFramePr>
          <p:xfrm>
            <a:off x="128520" y="1282680"/>
            <a:ext cx="8863200" cy="5168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7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8520" y="1282680"/>
                      <a:ext cx="8863200" cy="516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8" name="Text Box 4"/>
            <p:cNvSpPr/>
            <p:nvPr/>
          </p:nvSpPr>
          <p:spPr>
            <a:xfrm>
              <a:off x="128520" y="1282680"/>
              <a:ext cx="8863200" cy="516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 u="sng">
                <a:solidFill>
                  <a:srgbClr val="000000"/>
                </a:solidFill>
                <a:uFillTx/>
                <a:latin typeface="Bookman Old Style"/>
              </a:endParaRPr>
            </a:p>
          </p:txBody>
        </p:sp>
      </p:grp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dbffb7"/>
            </a:gs>
            <a:gs pos="100000">
              <a:srgbClr val="66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00"/>
                </a:solidFill>
                <a:latin typeface="Arial"/>
              </a:rPr>
              <a:t>Mutuales de Ayuda Económica con Presentacione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40" name="Group 2"/>
          <p:cNvGrpSpPr/>
          <p:nvPr/>
        </p:nvGrpSpPr>
        <p:grpSpPr>
          <a:xfrm>
            <a:off x="-571680" y="857160"/>
            <a:ext cx="10513800" cy="5346720"/>
            <a:chOff x="-571680" y="857160"/>
            <a:chExt cx="10513800" cy="5346720"/>
          </a:xfrm>
        </p:grpSpPr>
        <p:graphicFrame>
          <p:nvGraphicFramePr>
            <p:cNvPr id="241" name="Object 3"/>
            <p:cNvGraphicFramePr/>
            <p:nvPr/>
          </p:nvGraphicFramePr>
          <p:xfrm>
            <a:off x="-571680" y="857160"/>
            <a:ext cx="10144080" cy="5346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2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571680" y="857160"/>
                      <a:ext cx="10144080" cy="534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3" name="Text Box 4"/>
            <p:cNvSpPr/>
            <p:nvPr/>
          </p:nvSpPr>
          <p:spPr>
            <a:xfrm>
              <a:off x="615960" y="857160"/>
              <a:ext cx="9326160" cy="534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 u="sng">
                <a:solidFill>
                  <a:srgbClr val="000000"/>
                </a:solidFill>
                <a:uFillTx/>
                <a:latin typeface="Bookman Old Style"/>
              </a:endParaRPr>
            </a:p>
          </p:txBody>
        </p:sp>
      </p:grpSp>
      <p:pic>
        <p:nvPicPr>
          <p:cNvPr id="244" name="Picture 5" descr=""/>
          <p:cNvPicPr/>
          <p:nvPr/>
        </p:nvPicPr>
        <p:blipFill>
          <a:blip r:embed="rId3"/>
          <a:stretch/>
        </p:blipFill>
        <p:spPr>
          <a:xfrm>
            <a:off x="7451640" y="6021360"/>
            <a:ext cx="1511280" cy="3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dbffb7"/>
            </a:gs>
            <a:gs pos="100000">
              <a:srgbClr val="66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AR" sz="3200" spc="-1" strike="noStrike">
                <a:solidFill>
                  <a:srgbClr val="003300"/>
                </a:solidFill>
                <a:latin typeface="Arial"/>
              </a:rPr>
              <a:t>REGLAMENTOS DE AYUDA ECONÓMICA APROBADOS : </a:t>
            </a:r>
            <a:r>
              <a:rPr b="0" lang="es-AR" sz="3200" spc="-1" strike="noStrike">
                <a:solidFill>
                  <a:srgbClr val="ff0000"/>
                </a:solidFill>
                <a:latin typeface="Arial"/>
              </a:rPr>
              <a:t>1973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246" name="Object 2"/>
          <p:cNvGraphicFramePr/>
          <p:nvPr/>
        </p:nvGraphicFramePr>
        <p:xfrm>
          <a:off x="500040" y="1571760"/>
          <a:ext cx="8358120" cy="528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571760"/>
                    <a:ext cx="835812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B4CF-B76A-4966-8B51-3037921C6F93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dbffb7"/>
            </a:gs>
            <a:gs pos="100000">
              <a:srgbClr val="66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40096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AR" sz="4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AR" sz="4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AR" sz="4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AR" sz="4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AR" sz="4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AR" sz="4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AR" sz="4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AR" sz="4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CAUSALES de INTIMACIONES</a:t>
            </a:r>
            <a:r>
              <a:rPr b="0" lang="es-AR" sz="4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AR" sz="4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AR" sz="4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AR" sz="4400" spc="-1" strike="noStrike">
                <a:solidFill>
                  <a:srgbClr val="003300"/>
                </a:solidFill>
                <a:latin typeface="Arial"/>
              </a:rPr>
              <a:t>08/2010-08/2011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14720"/>
            <a:ext cx="822960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601"/>
              </a:spcBef>
              <a:buClr>
                <a:srgbClr val="1481b8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AR" sz="2400" spc="-1" strike="noStrike">
                <a:solidFill>
                  <a:srgbClr val="003300"/>
                </a:solidFill>
                <a:latin typeface="Arial"/>
              </a:rPr>
              <a:t>POR PRESTAR EL SAEM CON</a:t>
            </a:r>
            <a:r>
              <a:rPr b="1" lang="es-AR" sz="2400" spc="-1" strike="noStrike">
                <a:solidFill>
                  <a:srgbClr val="003300"/>
                </a:solidFill>
                <a:latin typeface="Arial"/>
              </a:rPr>
              <a:t> REG. NO VIGENTES</a:t>
            </a:r>
            <a:r>
              <a:rPr b="0" lang="es-AR" sz="2400" spc="-1" strike="noStrike">
                <a:solidFill>
                  <a:srgbClr val="003300"/>
                </a:solidFill>
                <a:latin typeface="Arial"/>
              </a:rPr>
              <a:t>.-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1481b8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AR" sz="2400" spc="-1" strike="noStrike">
                <a:solidFill>
                  <a:srgbClr val="003300"/>
                </a:solidFill>
                <a:latin typeface="Arial"/>
              </a:rPr>
              <a:t>POR FALTA DE ADECUACIÓN </a:t>
            </a:r>
            <a:r>
              <a:rPr b="0" lang="es-AR" sz="2400" spc="-1" strike="noStrike">
                <a:solidFill>
                  <a:srgbClr val="003300"/>
                </a:solidFill>
                <a:latin typeface="Arial"/>
              </a:rPr>
              <a:t>DEL REGLAMENTO S/  RES.1418/O3 (T.O. 2773/08).-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1481b8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AR" sz="2400" spc="-1" strike="noStrike">
                <a:solidFill>
                  <a:srgbClr val="003300"/>
                </a:solidFill>
                <a:latin typeface="Arial"/>
              </a:rPr>
              <a:t>POR INCUMPLIMIENTO EN LAS PRESENTACIONES</a:t>
            </a:r>
            <a:r>
              <a:rPr b="0" lang="es-AR" sz="2400" spc="-1" strike="noStrike">
                <a:solidFill>
                  <a:srgbClr val="003300"/>
                </a:solidFill>
                <a:latin typeface="Arial"/>
              </a:rPr>
              <a:t>: ANEXOS MENSUALES I;II;III;IV ;V y/o INFORMES DE AUDITORIA TRIMESTRALES SEGÚN ANEXO VI.-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1481b8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AR" sz="2400" spc="-1" strike="noStrike">
                <a:solidFill>
                  <a:srgbClr val="003300"/>
                </a:solidFill>
                <a:latin typeface="Arial"/>
              </a:rPr>
              <a:t>POR ERRORES EN LA CARGA  DE ANEXOS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1481b8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AR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003300"/>
                </a:solidFill>
                <a:latin typeface="Arial"/>
              </a:rPr>
              <a:t>en miles de pesos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1481b8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AR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003300"/>
                </a:solidFill>
                <a:latin typeface="Arial"/>
              </a:rPr>
              <a:t>sin firmas y/o aclaraciones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1481b8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AR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003300"/>
                </a:solidFill>
                <a:latin typeface="Arial"/>
              </a:rPr>
              <a:t>sin legalizar la firma del auditor externo en el C.P.C.E.-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308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E25C-8494-4161-A0C6-4079A3612F13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dbffb7"/>
            </a:gs>
            <a:gs pos="100000">
              <a:srgbClr val="66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1"/>
          <p:cNvSpPr/>
          <p:nvPr/>
        </p:nvSpPr>
        <p:spPr>
          <a:xfrm>
            <a:off x="285840" y="274680"/>
            <a:ext cx="840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Descarga del Formulario de los Anexos</a:t>
            </a:r>
            <a:endParaRPr b="1" lang="en-US" sz="24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4705200" cy="319068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54" name="Text Box 3"/>
          <p:cNvSpPr/>
          <p:nvPr/>
        </p:nvSpPr>
        <p:spPr>
          <a:xfrm>
            <a:off x="6227640" y="2997360"/>
            <a:ext cx="20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1f5281"/>
                </a:solidFill>
                <a:uFillTx/>
                <a:latin typeface="Arial"/>
              </a:rPr>
              <a:t>Acceder a la pestaña de Ayuda Económica</a:t>
            </a:r>
            <a:endParaRPr b="1" lang="en-US" sz="24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255" name="AutoShape 4"/>
          <p:cNvSpPr/>
          <p:nvPr/>
        </p:nvSpPr>
        <p:spPr>
          <a:xfrm rot="10800000">
            <a:off x="4642920" y="2927160"/>
            <a:ext cx="1079640" cy="36036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a9210"/>
          </a:solidFill>
          <a:ln w="0">
            <a:noFill/>
          </a:ln>
          <a:effectLst>
            <a:outerShdw dist="17819" dir="2700000" blurRad="0" rotWithShape="0">
              <a:srgbClr val="83580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256" name="5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0AF2-C776-435C-81BF-510A473C65D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253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6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dbffb7"/>
            </a:gs>
            <a:gs pos="100000">
              <a:srgbClr val="66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1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968720" cy="139536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58" name="AutoShape 2"/>
          <p:cNvSpPr/>
          <p:nvPr/>
        </p:nvSpPr>
        <p:spPr>
          <a:xfrm rot="10800000">
            <a:off x="5436720" y="1199880"/>
            <a:ext cx="1079640" cy="36036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a9210"/>
          </a:solidFill>
          <a:ln w="0">
            <a:noFill/>
          </a:ln>
          <a:effectLst>
            <a:outerShdw dist="17819" dir="2700000" blurRad="0" rotWithShape="0">
              <a:srgbClr val="83580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5435640" y="146016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3399"/>
                </a:solidFill>
                <a:uFillTx/>
                <a:latin typeface="Franklin Gothic Book"/>
              </a:rPr>
              <a:t>Ingresar al Link para Imprimir el Comprobante</a:t>
            </a:r>
            <a:endParaRPr b="1" lang="en-US" sz="24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grpSp>
        <p:nvGrpSpPr>
          <p:cNvPr id="260" name="Group 4"/>
          <p:cNvGrpSpPr/>
          <p:nvPr/>
        </p:nvGrpSpPr>
        <p:grpSpPr>
          <a:xfrm>
            <a:off x="395280" y="2205000"/>
            <a:ext cx="3743280" cy="4363920"/>
            <a:chOff x="395280" y="2205000"/>
            <a:chExt cx="3743280" cy="4363920"/>
          </a:xfrm>
        </p:grpSpPr>
        <p:pic>
          <p:nvPicPr>
            <p:cNvPr id="261" name="Picture 5" descr=""/>
            <p:cNvPicPr/>
            <p:nvPr/>
          </p:nvPicPr>
          <p:blipFill>
            <a:blip r:embed="rId2"/>
            <a:stretch/>
          </p:blipFill>
          <p:spPr>
            <a:xfrm>
              <a:off x="395280" y="2205000"/>
              <a:ext cx="3738600" cy="29559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262" name="Picture 6" descr=""/>
            <p:cNvPicPr/>
            <p:nvPr/>
          </p:nvPicPr>
          <p:blipFill>
            <a:blip r:embed="rId3"/>
            <a:stretch/>
          </p:blipFill>
          <p:spPr>
            <a:xfrm>
              <a:off x="395280" y="5175360"/>
              <a:ext cx="3743280" cy="13935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263" name="AutoShape 7"/>
          <p:cNvSpPr/>
          <p:nvPr/>
        </p:nvSpPr>
        <p:spPr>
          <a:xfrm rot="10800000">
            <a:off x="5579640" y="3503160"/>
            <a:ext cx="1079640" cy="36036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a9210"/>
          </a:solidFill>
          <a:ln w="0">
            <a:noFill/>
          </a:ln>
          <a:effectLst>
            <a:outerShdw dist="17819" dir="2700000" blurRad="0" rotWithShape="0">
              <a:srgbClr val="83580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5148360" y="39690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3399"/>
                </a:solidFill>
                <a:uFillTx/>
                <a:latin typeface="Franklin Gothic Book"/>
              </a:rPr>
              <a:t>Comprobante de Envío de Anexos de acuerdo a la Resolución 1418/03</a:t>
            </a:r>
            <a:endParaRPr b="1" lang="en-US" sz="24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265" name="9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E44F-B4B7-4DC8-9F81-25457254EF43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 -6 1.21184 -6 L -0.31112 1.21184 -6">
                                      <p:cBhvr>
                                        <p:cTn id="83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 -7 L 2.29417 -6 L -0.20868 0.00532 E">
                                      <p:cBhvr>
                                        <p:cTn id="98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dbffb7"/>
            </a:gs>
            <a:gs pos="100000">
              <a:srgbClr val="66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" descr=""/>
          <p:cNvPicPr/>
          <p:nvPr/>
        </p:nvPicPr>
        <p:blipFill>
          <a:blip r:embed="rId1"/>
          <a:stretch/>
        </p:blipFill>
        <p:spPr>
          <a:xfrm>
            <a:off x="6804000" y="1700280"/>
            <a:ext cx="2089080" cy="175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7" name="Object 2"/>
          <p:cNvGraphicFramePr/>
          <p:nvPr/>
        </p:nvGraphicFramePr>
        <p:xfrm>
          <a:off x="7956720" y="1628640"/>
          <a:ext cx="1002960" cy="10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56720" y="1628640"/>
                    <a:ext cx="100296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Text Box 3"/>
          <p:cNvSpPr/>
          <p:nvPr/>
        </p:nvSpPr>
        <p:spPr>
          <a:xfrm>
            <a:off x="179280" y="907920"/>
            <a:ext cx="87505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0000"/>
                </a:solidFill>
                <a:uFillTx/>
                <a:latin typeface="Bookman Old Style"/>
              </a:rPr>
              <a:t>Recepción ANEXOS en Mesa de Entradas del INAES</a:t>
            </a:r>
            <a:endParaRPr b="1" lang="en-US" sz="24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graphicFrame>
        <p:nvGraphicFramePr>
          <p:cNvPr id="270" name="Object 4"/>
          <p:cNvGraphicFramePr/>
          <p:nvPr/>
        </p:nvGraphicFramePr>
        <p:xfrm>
          <a:off x="3708360" y="4062240"/>
          <a:ext cx="550800" cy="551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1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08360" y="4062240"/>
                    <a:ext cx="550800" cy="5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5"/>
          <p:cNvGraphicFramePr/>
          <p:nvPr/>
        </p:nvGraphicFramePr>
        <p:xfrm>
          <a:off x="6372360" y="3716280"/>
          <a:ext cx="2736720" cy="501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3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72360" y="3716280"/>
                    <a:ext cx="273672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Object 6"/>
          <p:cNvGraphicFramePr/>
          <p:nvPr/>
        </p:nvGraphicFramePr>
        <p:xfrm>
          <a:off x="1258920" y="2741760"/>
          <a:ext cx="2405160" cy="2993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5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58920" y="2741760"/>
                    <a:ext cx="2405160" cy="29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Text Box 7"/>
          <p:cNvSpPr/>
          <p:nvPr/>
        </p:nvSpPr>
        <p:spPr>
          <a:xfrm>
            <a:off x="826920" y="587700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 u="sng">
                <a:solidFill>
                  <a:srgbClr val="1f5281"/>
                </a:solidFill>
                <a:uFillTx/>
                <a:latin typeface="Arial"/>
              </a:rPr>
              <a:t>Comprobante de Transferencia Electrónica</a:t>
            </a:r>
            <a:endParaRPr b="1" lang="en-US" sz="12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graphicFrame>
        <p:nvGraphicFramePr>
          <p:cNvPr id="277" name="Object 8"/>
          <p:cNvGraphicFramePr/>
          <p:nvPr/>
        </p:nvGraphicFramePr>
        <p:xfrm>
          <a:off x="4284720" y="2766960"/>
          <a:ext cx="2425680" cy="2952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8" name="Object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284720" y="2766960"/>
                    <a:ext cx="242568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Text Box 9"/>
          <p:cNvSpPr/>
          <p:nvPr/>
        </p:nvSpPr>
        <p:spPr>
          <a:xfrm>
            <a:off x="4140360" y="5877000"/>
            <a:ext cx="244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 u="sng">
                <a:solidFill>
                  <a:srgbClr val="1f5281"/>
                </a:solidFill>
                <a:uFillTx/>
                <a:latin typeface="Arial"/>
              </a:rPr>
              <a:t>Formulario de Anexos de Resolución 1418/03</a:t>
            </a:r>
            <a:endParaRPr b="1" lang="en-US" sz="12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pic>
        <p:nvPicPr>
          <p:cNvPr id="280" name="Object 10" descr=""/>
          <p:cNvPicPr/>
          <p:nvPr/>
        </p:nvPicPr>
        <p:blipFill>
          <a:blip r:embed="rId12"/>
          <a:stretch/>
        </p:blipFill>
        <p:spPr>
          <a:xfrm>
            <a:off x="324000" y="3573360"/>
            <a:ext cx="742680" cy="9558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11"/>
          <p:cNvSpPr/>
          <p:nvPr/>
        </p:nvSpPr>
        <p:spPr>
          <a:xfrm>
            <a:off x="250920" y="4579920"/>
            <a:ext cx="93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 u="sng">
                <a:solidFill>
                  <a:srgbClr val="1f5281"/>
                </a:solidFill>
                <a:uFillTx/>
                <a:latin typeface="Arial"/>
              </a:rPr>
              <a:t>Usuario-Entidad</a:t>
            </a:r>
            <a:endParaRPr b="1" lang="en-US" sz="12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282" name="1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F219-798C-470D-8AC2-EB4506690FCC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02 E">
                                      <p:cBhvr>
                                        <p:cTn id="125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02 E">
                                      <p:cBhvr>
                                        <p:cTn id="127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02 E">
                                      <p:cBhvr>
                                        <p:cTn id="152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02 E">
                                      <p:cBhvr>
                                        <p:cTn id="154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02 E">
                                      <p:cBhvr>
                                        <p:cTn id="156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02 E">
                                      <p:cBhvr>
                                        <p:cTn id="158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02 E">
                                      <p:cBhvr>
                                        <p:cTn id="160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89 -0.0215 L -0.38784 -0.0215 E">
                                      <p:cBhvr>
                                        <p:cTn id="192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dbffb7"/>
            </a:gs>
            <a:gs pos="100000">
              <a:srgbClr val="66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1"/>
          <p:cNvSpPr/>
          <p:nvPr/>
        </p:nvSpPr>
        <p:spPr>
          <a:xfrm>
            <a:off x="179280" y="692280"/>
            <a:ext cx="87505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0000"/>
                </a:solidFill>
                <a:uFillTx/>
                <a:latin typeface="Bookman Old Style"/>
              </a:rPr>
              <a:t>Recepción INFORMES DE AUDITORIA en Mesa de Entradas del INAES</a:t>
            </a:r>
            <a:endParaRPr b="1" lang="en-US" sz="24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6804000" y="1700280"/>
            <a:ext cx="2089080" cy="175572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3"/>
          <p:cNvSpPr/>
          <p:nvPr/>
        </p:nvSpPr>
        <p:spPr>
          <a:xfrm>
            <a:off x="900000" y="5950080"/>
            <a:ext cx="309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1f5281"/>
                </a:solidFill>
                <a:uFillTx/>
                <a:latin typeface="Arial"/>
              </a:rPr>
              <a:t>Comprobante de Transferencia Electrónica</a:t>
            </a:r>
            <a:endParaRPr b="1" lang="en-US" sz="14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4140360" y="5950080"/>
            <a:ext cx="24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1f5281"/>
                </a:solidFill>
                <a:uFillTx/>
                <a:latin typeface="Arial"/>
              </a:rPr>
              <a:t>Informe de Auditoria</a:t>
            </a:r>
            <a:endParaRPr b="1" lang="en-US" sz="14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graphicFrame>
        <p:nvGraphicFramePr>
          <p:cNvPr id="287" name="Object 5"/>
          <p:cNvGraphicFramePr/>
          <p:nvPr/>
        </p:nvGraphicFramePr>
        <p:xfrm>
          <a:off x="7956720" y="1628640"/>
          <a:ext cx="1002960" cy="10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56720" y="1628640"/>
                    <a:ext cx="100296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Text Box 6"/>
          <p:cNvSpPr/>
          <p:nvPr/>
        </p:nvSpPr>
        <p:spPr>
          <a:xfrm>
            <a:off x="108000" y="4724280"/>
            <a:ext cx="9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 u="sng">
                <a:solidFill>
                  <a:srgbClr val="1f5281"/>
                </a:solidFill>
                <a:uFillTx/>
                <a:latin typeface="Arial"/>
              </a:rPr>
              <a:t>Usuario-Entidad</a:t>
            </a:r>
            <a:endParaRPr b="1" lang="en-US" sz="12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graphicFrame>
        <p:nvGraphicFramePr>
          <p:cNvPr id="290" name="Object 7"/>
          <p:cNvGraphicFramePr/>
          <p:nvPr/>
        </p:nvGraphicFramePr>
        <p:xfrm>
          <a:off x="1042920" y="2303640"/>
          <a:ext cx="2665440" cy="3357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1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42920" y="2303640"/>
                    <a:ext cx="2665440" cy="33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2" name="Picture 8" descr=""/>
          <p:cNvPicPr/>
          <p:nvPr/>
        </p:nvPicPr>
        <p:blipFill>
          <a:blip r:embed="rId6"/>
          <a:stretch/>
        </p:blipFill>
        <p:spPr>
          <a:xfrm>
            <a:off x="4284720" y="2374920"/>
            <a:ext cx="2444760" cy="34304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93" name="Object 9" descr=""/>
          <p:cNvPicPr/>
          <p:nvPr/>
        </p:nvPicPr>
        <p:blipFill>
          <a:blip r:embed="rId7"/>
          <a:stretch/>
        </p:blipFill>
        <p:spPr>
          <a:xfrm>
            <a:off x="179280" y="3683160"/>
            <a:ext cx="743040" cy="100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Object 10"/>
          <p:cNvGraphicFramePr/>
          <p:nvPr/>
        </p:nvGraphicFramePr>
        <p:xfrm>
          <a:off x="3780000" y="3860640"/>
          <a:ext cx="431640" cy="551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5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0000" y="3860640"/>
                    <a:ext cx="431640" cy="5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Object 11"/>
          <p:cNvGraphicFramePr/>
          <p:nvPr/>
        </p:nvGraphicFramePr>
        <p:xfrm>
          <a:off x="6948360" y="3716280"/>
          <a:ext cx="1944720" cy="792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97" name="Object 1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948360" y="3716280"/>
                    <a:ext cx="194472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1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B1AE-DA6E-44C8-B042-0BD56E90DAF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02 E">
                                      <p:cBhvr>
                                        <p:cTn id="240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02 E">
                                      <p:cBhvr>
                                        <p:cTn id="242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 -6 L -1.47086 -6 L 0.23247 -0.30967 E">
                                      <p:cBhvr>
                                        <p:cTn id="244" dur="2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02 E">
                                      <p:cBhvr>
                                        <p:cTn id="246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 -7 L -1.43386 -6 L 0.23628 -0.31475 E">
                                      <p:cBhvr>
                                        <p:cTn id="248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02 E">
                                      <p:cBhvr>
                                        <p:cTn id="250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02 E">
                                      <p:cBhvr>
                                        <p:cTn id="252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51 -0.02451 L -0.37205 -0.02451 E">
                                      <p:cBhvr>
                                        <p:cTn id="278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dbffb7"/>
            </a:gs>
            <a:gs pos="100000">
              <a:srgbClr val="66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1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513B-0C80-4074-8A28-9DD70C48B05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graphicFrame>
        <p:nvGraphicFramePr>
          <p:cNvPr id="300" name="Object 2"/>
          <p:cNvGraphicFramePr/>
          <p:nvPr/>
        </p:nvGraphicFramePr>
        <p:xfrm>
          <a:off x="428760" y="785880"/>
          <a:ext cx="8429400" cy="55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785880"/>
                    <a:ext cx="8429400" cy="55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dbffb7"/>
            </a:gs>
            <a:gs pos="100000">
              <a:srgbClr val="66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Arial"/>
              </a:rPr>
              <a:t>RESOLUCIÓN 5255/09:(ART.1º)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00"/>
                </a:solidFill>
                <a:latin typeface="Arial"/>
              </a:rPr>
              <a:t>DE APLICACIÓN PARA LAS MUTUALES QUE PRESTEN ENTRE SUS </a:t>
            </a:r>
            <a:r>
              <a:rPr b="0" lang="es-ES_tradnl" sz="4400" spc="-1" strike="noStrike">
                <a:solidFill>
                  <a:srgbClr val="ff0000"/>
                </a:solidFill>
                <a:latin typeface="Arial"/>
              </a:rPr>
              <a:t>SERVICIOS EL DE AYUDA ECONÓMICA MUTUAL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4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78F2-28DB-4FA7-A60C-97C72BB48E3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dbffb7"/>
            </a:gs>
            <a:gs pos="100000">
              <a:srgbClr val="66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179280" y="2349360"/>
            <a:ext cx="864072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712880" indent="-341280" algn="just">
              <a:lnSpc>
                <a:spcPct val="100000"/>
              </a:lnSpc>
              <a:spcBef>
                <a:spcPts val="64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s-ES" sz="2600" spc="-1" strike="noStrike">
                <a:solidFill>
                  <a:srgbClr val="ff0000"/>
                </a:solidFill>
                <a:latin typeface="Bookman Old Style"/>
              </a:rPr>
              <a:t>Res.1418/03</a:t>
            </a:r>
            <a:r>
              <a:rPr b="1" i="1" lang="es-ES" sz="2600" spc="-1" strike="noStrike">
                <a:solidFill>
                  <a:srgbClr val="1481b8"/>
                </a:solidFill>
                <a:latin typeface="Bookman Old Style"/>
              </a:rPr>
              <a:t>-Regula modalidad de </a:t>
            </a:r>
            <a:r>
              <a:rPr b="1" i="1" lang="es-ES" sz="2600" spc="-1" strike="noStrike">
                <a:solidFill>
                  <a:srgbClr val="1481b8"/>
                </a:solidFill>
                <a:latin typeface="Bookman Old Style"/>
              </a:rPr>
              <a:t>	</a:t>
            </a:r>
            <a:r>
              <a:rPr b="1" i="1" lang="es-ES" sz="2600" spc="-1" strike="noStrike">
                <a:solidFill>
                  <a:srgbClr val="1481b8"/>
                </a:solidFill>
                <a:latin typeface="Bookman Old Style"/>
              </a:rPr>
              <a:t>	</a:t>
            </a:r>
            <a:r>
              <a:rPr b="1" i="1" lang="es-ES" sz="2600" spc="-1" strike="noStrike">
                <a:solidFill>
                  <a:srgbClr val="1481b8"/>
                </a:solidFill>
                <a:latin typeface="Bookman Old Style"/>
              </a:rPr>
              <a:t>	</a:t>
            </a:r>
            <a:r>
              <a:rPr b="1" i="1" lang="es-ES" sz="2600" spc="-1" strike="noStrike">
                <a:solidFill>
                  <a:srgbClr val="1481b8"/>
                </a:solidFill>
                <a:latin typeface="Bookman Old Style"/>
              </a:rPr>
              <a:t>prestación del SAEM</a:t>
            </a:r>
            <a:endParaRPr b="1" lang="en-US" sz="2600" spc="-1" strike="noStrike" u="sng">
              <a:solidFill>
                <a:srgbClr val="000000"/>
              </a:solidFill>
              <a:uFillTx/>
              <a:latin typeface="Bookman Old Style"/>
            </a:endParaRPr>
          </a:p>
          <a:p>
            <a:pPr marL="341280" indent="-341280" algn="just">
              <a:spcBef>
                <a:spcPts val="64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s-ES" sz="2600" spc="-1" strike="noStrike">
                <a:solidFill>
                  <a:srgbClr val="ff0000"/>
                </a:solidFill>
                <a:latin typeface="Bookman Old Style"/>
              </a:rPr>
              <a:t>Res.2772/08</a:t>
            </a:r>
            <a:r>
              <a:rPr b="1" i="1" lang="es-ES" sz="2600" spc="-1" strike="noStrike">
                <a:solidFill>
                  <a:srgbClr val="1481b8"/>
                </a:solidFill>
                <a:latin typeface="Bookman Old Style"/>
              </a:rPr>
              <a:t>- Modificaciones  Res. 1418/03</a:t>
            </a:r>
            <a:endParaRPr b="1" lang="en-US" sz="2600" spc="-1" strike="noStrike" u="sng">
              <a:solidFill>
                <a:srgbClr val="000000"/>
              </a:solidFill>
              <a:uFillTx/>
              <a:latin typeface="Bookman Old Style"/>
            </a:endParaRPr>
          </a:p>
          <a:p>
            <a:pPr marL="341280" indent="-341280" algn="just">
              <a:spcBef>
                <a:spcPts val="64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s-ES" sz="2600" spc="-1" strike="noStrike">
                <a:solidFill>
                  <a:srgbClr val="ff0000"/>
                </a:solidFill>
                <a:latin typeface="Bookman Old Style"/>
              </a:rPr>
              <a:t>Res.2773/08</a:t>
            </a:r>
            <a:r>
              <a:rPr b="1" i="1" lang="es-ES" sz="2600" spc="-1" strike="noStrike">
                <a:solidFill>
                  <a:srgbClr val="1481b8"/>
                </a:solidFill>
                <a:latin typeface="Bookman Old Style"/>
              </a:rPr>
              <a:t>- Nuevo Texto ordenado</a:t>
            </a:r>
            <a:endParaRPr b="1" lang="en-US" sz="2600" spc="-1" strike="noStrike" u="sng">
              <a:solidFill>
                <a:srgbClr val="000000"/>
              </a:solidFill>
              <a:uFillTx/>
              <a:latin typeface="Bookman Old Style"/>
            </a:endParaRPr>
          </a:p>
          <a:p>
            <a:pPr marL="341280" indent="-341280" algn="just">
              <a:spcBef>
                <a:spcPts val="64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s-ES" sz="2600" spc="-1" strike="noStrike">
                <a:solidFill>
                  <a:srgbClr val="ff0000"/>
                </a:solidFill>
                <a:latin typeface="Bookman Old Style"/>
              </a:rPr>
              <a:t>Disp. 18/09-  </a:t>
            </a:r>
            <a:r>
              <a:rPr b="1" i="1" lang="es-ES" sz="2600" spc="-1" strike="noStrike">
                <a:solidFill>
                  <a:srgbClr val="1481b8"/>
                </a:solidFill>
                <a:latin typeface="Bookman Old Style"/>
              </a:rPr>
              <a:t>Aprueba el instructivo - tutorial</a:t>
            </a:r>
            <a:endParaRPr b="1" lang="en-US" sz="2600" spc="-1" strike="noStrike" u="sng">
              <a:solidFill>
                <a:srgbClr val="000000"/>
              </a:solidFill>
              <a:uFillTx/>
              <a:latin typeface="Bookman Old Style"/>
            </a:endParaRPr>
          </a:p>
          <a:p>
            <a:pPr marL="341280" indent="-341280" algn="just">
              <a:spcBef>
                <a:spcPts val="64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s-ES" sz="2600" spc="-1" strike="noStrike">
                <a:solidFill>
                  <a:srgbClr val="ff0000"/>
                </a:solidFill>
                <a:latin typeface="Bookman Old Style"/>
              </a:rPr>
              <a:t>Res.130/09</a:t>
            </a:r>
            <a:r>
              <a:rPr b="1" i="1" lang="es-ES" sz="2600" spc="-1" strike="noStrike">
                <a:solidFill>
                  <a:srgbClr val="1481b8"/>
                </a:solidFill>
                <a:latin typeface="Bookman Old Style"/>
              </a:rPr>
              <a:t>- Modificaciones a la Res. 2772/08</a:t>
            </a:r>
            <a:endParaRPr b="1" lang="en-US" sz="2600" spc="-1" strike="noStrike" u="sng">
              <a:solidFill>
                <a:srgbClr val="000000"/>
              </a:solidFill>
              <a:uFillTx/>
              <a:latin typeface="Bookman Old Style"/>
            </a:endParaRPr>
          </a:p>
          <a:p>
            <a:pPr marL="341280" indent="-341280" algn="just">
              <a:spcBef>
                <a:spcPts val="64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s-AR" sz="2600" spc="-1" strike="noStrike">
                <a:solidFill>
                  <a:srgbClr val="ff0000"/>
                </a:solidFill>
                <a:latin typeface="Bookman Old Style"/>
              </a:rPr>
              <a:t>Res.983/09</a:t>
            </a:r>
            <a:r>
              <a:rPr b="1" i="1" lang="es-AR" sz="2600" spc="-1" strike="noStrike">
                <a:solidFill>
                  <a:srgbClr val="1481b8"/>
                </a:solidFill>
                <a:latin typeface="Bookman Old Style"/>
              </a:rPr>
              <a:t>- Registro de Auditores – </a:t>
            </a:r>
            <a:r>
              <a:rPr b="1" i="1" lang="es-AR" sz="2600" spc="-1" strike="noStrike">
                <a:solidFill>
                  <a:srgbClr val="1481b8"/>
                </a:solidFill>
                <a:latin typeface="Bookman Old Style"/>
              </a:rPr>
              <a:t>	</a:t>
            </a:r>
            <a:r>
              <a:rPr b="1" i="1" lang="es-AR" sz="2600" spc="-1" strike="noStrike">
                <a:solidFill>
                  <a:srgbClr val="1481b8"/>
                </a:solidFill>
                <a:latin typeface="Bookman Old Style"/>
              </a:rPr>
              <a:t>	</a:t>
            </a:r>
            <a:r>
              <a:rPr b="1" i="1" lang="es-AR" sz="2600" spc="-1" strike="noStrike">
                <a:solidFill>
                  <a:srgbClr val="1481b8"/>
                </a:solidFill>
                <a:latin typeface="Bookman Old Style"/>
              </a:rPr>
              <a:t>	</a:t>
            </a:r>
            <a:r>
              <a:rPr b="1" i="1" lang="es-AR" sz="2600" spc="-1" strike="noStrike">
                <a:solidFill>
                  <a:srgbClr val="1481b8"/>
                </a:solidFill>
                <a:latin typeface="Bookman Old Style"/>
              </a:rPr>
              <a:t>Adecuación de Reglamentos</a:t>
            </a:r>
            <a:endParaRPr b="1" lang="en-US" sz="26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206" name="AutoShape 2"/>
          <p:cNvSpPr/>
          <p:nvPr/>
        </p:nvSpPr>
        <p:spPr>
          <a:xfrm>
            <a:off x="888840" y="847800"/>
            <a:ext cx="7561440" cy="1079280"/>
          </a:xfrm>
          <a:prstGeom prst="downArrowCallout">
            <a:avLst>
              <a:gd name="adj1" fmla="val 175166"/>
              <a:gd name="adj2" fmla="val 175150"/>
              <a:gd name="adj3" fmla="val 16667"/>
              <a:gd name="adj4" fmla="val 66667"/>
            </a:avLst>
          </a:prstGeom>
          <a:solidFill>
            <a:srgbClr val="cccc00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 u="sng">
                <a:solidFill>
                  <a:srgbClr val="1f5281"/>
                </a:solidFill>
                <a:uFillTx/>
                <a:latin typeface="Garamond"/>
              </a:rPr>
              <a:t>Servicio de Ayuda Económica Mutual</a:t>
            </a:r>
            <a:endParaRPr b="1" lang="en-US" sz="32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F025-C6EE-450C-AFA3-6C1B7C9174E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dbffb7"/>
            </a:gs>
            <a:gs pos="100000">
              <a:srgbClr val="66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Arial"/>
              </a:rPr>
              <a:t>RESOLUCIÓN 5255/09: (ART.2º)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21348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00"/>
                </a:solidFill>
                <a:latin typeface="Arial"/>
              </a:rPr>
              <a:t>DEBEN APLICAR EN SU CONTABILIDAD EL </a:t>
            </a:r>
            <a:r>
              <a:rPr b="0" lang="es-ES_tradnl" sz="4400" spc="-1" strike="noStrike">
                <a:solidFill>
                  <a:srgbClr val="ff0000"/>
                </a:solidFill>
                <a:latin typeface="Arial"/>
              </a:rPr>
              <a:t>MANUAL Y PLAN DE CUENTAS SEGÚN ANEXO I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7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5187-370F-42DB-AC6C-89D1B283EA6C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dbffb7"/>
            </a:gs>
            <a:gs pos="100000">
              <a:srgbClr val="66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Arial"/>
              </a:rPr>
              <a:t>RESOLUCIÓN 5255/09: (ART.5º)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"/>
              </a:rPr>
              <a:t>LOS SUBSISTEMAS CBLES. PUEDEN CONTAR CON CTAS. DE CONTROL </a:t>
            </a:r>
            <a:r>
              <a:rPr b="0" lang="es-ES_tradnl" sz="4400" spc="-1" strike="noStrike">
                <a:solidFill>
                  <a:srgbClr val="003300"/>
                </a:solidFill>
                <a:latin typeface="Arial"/>
              </a:rPr>
              <a:t>CON ASIENTOS MENSUALE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0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8FC2-FBFB-4AE7-8580-5B05B071EEC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dbffb7"/>
            </a:gs>
            <a:gs pos="100000">
              <a:srgbClr val="66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Arial"/>
              </a:rPr>
              <a:t>RESOLUCIÓN 5255/09: (ART.4º)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"/>
              </a:rPr>
              <a:t>SE CONTEMPLA UN MAYOR NÚMERO DE CUENTAS </a:t>
            </a:r>
            <a:r>
              <a:rPr b="0" lang="es-ES_tradnl" sz="4400" spc="-1" strike="noStrike">
                <a:solidFill>
                  <a:srgbClr val="003300"/>
                </a:solidFill>
                <a:latin typeface="Arial"/>
              </a:rPr>
              <a:t>EN LOS SISTEMAS CONTABLES INTERNO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3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5F4F-1D88-4FDC-A617-230BE0F2D5A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dbffb7"/>
            </a:gs>
            <a:gs pos="100000">
              <a:srgbClr val="66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Arial"/>
              </a:rPr>
              <a:t>RESOLUCIÓN 5255/2009: (ART.6º)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0" y="178596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"/>
              </a:rPr>
              <a:t>SE PUEDEN EXCLUIR </a:t>
            </a:r>
            <a:r>
              <a:rPr b="0" lang="es-ES_tradnl" sz="4400" spc="-1" strike="noStrike">
                <a:solidFill>
                  <a:srgbClr val="003300"/>
                </a:solidFill>
                <a:latin typeface="Arial"/>
              </a:rPr>
              <a:t>DEL PLAN DE CUENTAS AQUELLAS QUE NO SE VINCULEN CON OPERACIONES QUE NO REALICEN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6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6B9E-F20E-45FD-877D-384E9DB11A3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dbffb7"/>
            </a:gs>
            <a:gs pos="100000">
              <a:srgbClr val="66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Arial"/>
              </a:rPr>
              <a:t>RESOLUCIÓN 5255/09: (ART.7º)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643040"/>
            <a:ext cx="9144000" cy="42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00"/>
                </a:solidFill>
                <a:latin typeface="Arial"/>
              </a:rPr>
              <a:t>LAS MUTUALES CON </a:t>
            </a:r>
            <a:r>
              <a:rPr b="0" lang="es-ES_tradnl" sz="4400" spc="-1" strike="noStrike">
                <a:solidFill>
                  <a:srgbClr val="ff0000"/>
                </a:solidFill>
                <a:latin typeface="Arial"/>
              </a:rPr>
              <a:t>FILIALES</a:t>
            </a:r>
            <a:r>
              <a:rPr b="0" lang="es-ES_tradnl" sz="4400" spc="-1" strike="noStrike">
                <a:solidFill>
                  <a:srgbClr val="003300"/>
                </a:solidFill>
                <a:latin typeface="Arial"/>
              </a:rPr>
              <a:t> PUEDEN CONTAR CON CONTABILIDAD CENTRALIZADA O DESCENTRALIZADA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9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FF80-05A6-4396-A612-70BA09B91C3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dbffb7"/>
            </a:gs>
            <a:gs pos="100000">
              <a:srgbClr val="66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Arial"/>
              </a:rPr>
              <a:t>RESOLUCIÓN 5255/09: (ART.7º)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"/>
              </a:rPr>
              <a:t>PARA CONTAB. DESCENTRALIZADA </a:t>
            </a:r>
            <a:r>
              <a:rPr b="0" lang="es-ES_tradnl" sz="4400" spc="-1" strike="noStrike">
                <a:solidFill>
                  <a:srgbClr val="003300"/>
                </a:solidFill>
                <a:latin typeface="Arial"/>
              </a:rPr>
              <a:t>SE APLICA EL PLAN DE CUENTAS EN CADA FILIAL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2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F792-D645-43EF-B97F-6E9150D2AD36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dbffb7"/>
            </a:gs>
            <a:gs pos="100000">
              <a:srgbClr val="66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Arial"/>
              </a:rPr>
              <a:t>RESOLUCIÓN 5255/09: (ART.7º)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0" y="1571760"/>
            <a:ext cx="9144000" cy="42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"/>
              </a:rPr>
              <a:t>PARA</a:t>
            </a:r>
            <a:r>
              <a:rPr b="0" lang="es-ES_tradnl" sz="4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ES_tradnl" sz="4400" spc="-1" strike="noStrike">
                <a:solidFill>
                  <a:srgbClr val="ff0000"/>
                </a:solidFill>
                <a:latin typeface="Arial"/>
              </a:rPr>
              <a:t>CONTABABILIDAD CENTRALIZADA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00"/>
                </a:solidFill>
                <a:latin typeface="Arial"/>
              </a:rPr>
              <a:t>SE REQUIEREN DETALLES ANÁLITICOS Y DOC. RESPALDATORIA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5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FD7F-3026-48A0-BAC3-714685424F7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dbffb7"/>
            </a:gs>
            <a:gs pos="100000">
              <a:srgbClr val="66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Arial"/>
              </a:rPr>
              <a:t>RESOLUCIÓN 5255/09: (ART.8º)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00"/>
                </a:solidFill>
                <a:latin typeface="Arial"/>
              </a:rPr>
              <a:t>PARA CONTAB. EN MONEDA EXTRANJERA Y NACIONAL EFECTUAR </a:t>
            </a:r>
            <a:r>
              <a:rPr b="0" lang="es-ES_tradnl" sz="4400" spc="-1" strike="noStrike">
                <a:solidFill>
                  <a:srgbClr val="ff0000"/>
                </a:solidFill>
                <a:latin typeface="Arial"/>
              </a:rPr>
              <a:t>LA CONVERSIÓN A PESOS POR ME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8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D5B3-1033-41D3-83C4-32E72665B88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dbffb7"/>
            </a:gs>
            <a:gs pos="100000">
              <a:srgbClr val="66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Arial"/>
              </a:rPr>
              <a:t>RESOLUCIÓN 5255/09: (ART.9º)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00"/>
                </a:solidFill>
                <a:latin typeface="Arial"/>
              </a:rPr>
              <a:t>LOS COMPROBANTES Y PAPELES DE TRABAJO </a:t>
            </a:r>
            <a:r>
              <a:rPr b="1" lang="es-ES_tradnl" sz="4400" spc="-1" strike="noStrike">
                <a:solidFill>
                  <a:srgbClr val="003300"/>
                </a:solidFill>
                <a:latin typeface="Arial"/>
              </a:rPr>
              <a:t>SE CONSERVARÁN </a:t>
            </a:r>
            <a:r>
              <a:rPr b="0" lang="es-ES_tradnl" sz="4400" spc="-1" strike="noStrike">
                <a:solidFill>
                  <a:srgbClr val="003300"/>
                </a:solidFill>
                <a:latin typeface="Arial"/>
              </a:rPr>
              <a:t>POR </a:t>
            </a:r>
            <a:r>
              <a:rPr b="0" lang="es-ES_tradnl" sz="4400" spc="-1" strike="noStrike">
                <a:solidFill>
                  <a:srgbClr val="ff0000"/>
                </a:solidFill>
                <a:latin typeface="Arial"/>
              </a:rPr>
              <a:t>10 AÑOS </a:t>
            </a:r>
            <a:r>
              <a:rPr b="0" lang="es-ES_tradnl" sz="4400" spc="-1" strike="noStrike">
                <a:solidFill>
                  <a:srgbClr val="003300"/>
                </a:solidFill>
                <a:latin typeface="Arial"/>
              </a:rPr>
              <a:t>DESDE FECHA DE EMISIÓN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1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8BDA-E73B-45C3-B3FF-6559AF4EEF43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dbffb7"/>
            </a:gs>
            <a:gs pos="100000">
              <a:srgbClr val="66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Arial"/>
              </a:rPr>
              <a:t>RESOLUCIÓN 5255/09: (ART.10º)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3300"/>
                </a:solidFill>
                <a:uFillTx/>
                <a:latin typeface="Arial"/>
              </a:rPr>
              <a:t>VIGENCIA</a:t>
            </a:r>
            <a:r>
              <a:rPr b="0" lang="es-ES_tradnl" sz="4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00"/>
                </a:solidFill>
                <a:latin typeface="Arial"/>
              </a:rPr>
              <a:t>EJERCICIOS QUE SE</a:t>
            </a:r>
            <a:r>
              <a:rPr b="0" lang="es-ES_tradnl" sz="4400" spc="-1" strike="noStrike">
                <a:solidFill>
                  <a:srgbClr val="ff0000"/>
                </a:solidFill>
                <a:latin typeface="Arial"/>
              </a:rPr>
              <a:t> INICIEN A PARTIR DEL 1º DE ENERO DE 2010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4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62D1-C220-49A5-ACEB-1E4F10743D4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dbffb7"/>
            </a:gs>
            <a:gs pos="100000">
              <a:srgbClr val="66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395280" y="752400"/>
            <a:ext cx="8277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 u="sng">
                <a:solidFill>
                  <a:srgbClr val="1f5281"/>
                </a:solidFill>
                <a:uFillTx/>
                <a:latin typeface="Bookman Old Style"/>
              </a:rPr>
              <a:t>Resolución: 1418/03- 2773/08</a:t>
            </a:r>
            <a:endParaRPr b="1" lang="en-US" sz="32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1628640"/>
            <a:ext cx="42116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28480" indent="-528480" algn="ctr">
              <a:spcBef>
                <a:spcPts val="601"/>
              </a:spcBef>
              <a:tabLst>
                <a:tab algn="l" pos="0"/>
                <a:tab algn="l" pos="1098720"/>
                <a:tab algn="l" pos="2013120"/>
                <a:tab algn="l" pos="2927520"/>
                <a:tab algn="l" pos="3841920"/>
                <a:tab algn="l" pos="4756320"/>
                <a:tab algn="l" pos="5670720"/>
                <a:tab algn="l" pos="6585120"/>
                <a:tab algn="l" pos="7499520"/>
                <a:tab algn="l" pos="8413920"/>
                <a:tab algn="l" pos="9328320"/>
                <a:tab algn="l" pos="1024272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Bookman Old Style"/>
            </a:endParaRPr>
          </a:p>
          <a:p>
            <a:pPr marL="528480" indent="-528480" algn="ctr">
              <a:spcBef>
                <a:spcPts val="601"/>
              </a:spcBef>
              <a:tabLst>
                <a:tab algn="l" pos="0"/>
                <a:tab algn="l" pos="1098720"/>
                <a:tab algn="l" pos="2013120"/>
                <a:tab algn="l" pos="2927520"/>
                <a:tab algn="l" pos="3841920"/>
                <a:tab algn="l" pos="4756320"/>
                <a:tab algn="l" pos="5670720"/>
                <a:tab algn="l" pos="6585120"/>
                <a:tab algn="l" pos="7499520"/>
                <a:tab algn="l" pos="8413920"/>
                <a:tab algn="l" pos="9328320"/>
                <a:tab algn="l" pos="1024272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Bookman Old Style"/>
            </a:endParaRPr>
          </a:p>
          <a:p>
            <a:pPr marL="528480" indent="-528480" algn="ctr">
              <a:spcBef>
                <a:spcPts val="601"/>
              </a:spcBef>
              <a:tabLst>
                <a:tab algn="l" pos="0"/>
                <a:tab algn="l" pos="1098720"/>
                <a:tab algn="l" pos="2013120"/>
                <a:tab algn="l" pos="2927520"/>
                <a:tab algn="l" pos="3841920"/>
                <a:tab algn="l" pos="4756320"/>
                <a:tab algn="l" pos="5670720"/>
                <a:tab algn="l" pos="6585120"/>
                <a:tab algn="l" pos="7499520"/>
                <a:tab algn="l" pos="8413920"/>
                <a:tab algn="l" pos="9328320"/>
                <a:tab algn="l" pos="1024272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Bookman Old Style"/>
            </a:endParaRPr>
          </a:p>
          <a:p>
            <a:pPr marL="528480" indent="-528480" algn="ctr">
              <a:spcBef>
                <a:spcPts val="825"/>
              </a:spcBef>
              <a:tabLst>
                <a:tab algn="l" pos="0"/>
                <a:tab algn="l" pos="1098720"/>
                <a:tab algn="l" pos="2013120"/>
                <a:tab algn="l" pos="2927520"/>
                <a:tab algn="l" pos="3841920"/>
                <a:tab algn="l" pos="4756320"/>
                <a:tab algn="l" pos="5670720"/>
                <a:tab algn="l" pos="6585120"/>
                <a:tab algn="l" pos="7499520"/>
                <a:tab algn="l" pos="8413920"/>
                <a:tab algn="l" pos="9328320"/>
                <a:tab algn="l" pos="10242720"/>
              </a:tabLst>
            </a:pPr>
            <a:r>
              <a:rPr b="1" lang="es-ES" sz="3300" spc="-1" strike="noStrike">
                <a:solidFill>
                  <a:srgbClr val="1481b8"/>
                </a:solidFill>
                <a:latin typeface="Bookman Old Style"/>
              </a:rPr>
              <a:t>    </a:t>
            </a:r>
            <a:r>
              <a:rPr b="1" lang="es-ES" sz="3300" spc="-1" strike="noStrike">
                <a:solidFill>
                  <a:srgbClr val="ff0000"/>
                </a:solidFill>
                <a:latin typeface="Bookman Old Style"/>
              </a:rPr>
              <a:t>Art. 17º </a:t>
            </a:r>
            <a:r>
              <a:rPr b="1" lang="es-ES" sz="3300" spc="-1" strike="noStrike">
                <a:solidFill>
                  <a:srgbClr val="1481b8"/>
                </a:solidFill>
                <a:latin typeface="Bookman Old Style"/>
              </a:rPr>
              <a:t>Documentación e Información obligatoria</a:t>
            </a:r>
            <a:endParaRPr b="1" lang="en-US" sz="33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4859280" y="1484280"/>
            <a:ext cx="4105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1" lang="en-US" sz="2600" spc="-1" strike="noStrike" u="sng">
              <a:solidFill>
                <a:srgbClr val="000000"/>
              </a:solidFill>
              <a:uFillTx/>
              <a:latin typeface="Bookman Old Style"/>
            </a:endParaRPr>
          </a:p>
          <a:p>
            <a:pPr marL="341280" indent="-341280" algn="ctr">
              <a:lnSpc>
                <a:spcPct val="90000"/>
              </a:lnSpc>
              <a:spcBef>
                <a:spcPts val="649"/>
              </a:spcBef>
              <a:buClr>
                <a:srgbClr val="1481b8"/>
              </a:buClr>
              <a:buFont typeface="Symbol" charset="2"/>
              <a:buChar char="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" sz="2600" spc="-1" strike="noStrike">
                <a:solidFill>
                  <a:srgbClr val="1481b8"/>
                </a:solidFill>
                <a:latin typeface="Bookman Old Style"/>
              </a:rPr>
              <a:t>Transferencia electrónica de datos (inc. b)</a:t>
            </a:r>
            <a:endParaRPr b="1" lang="en-US" sz="2600" spc="-1" strike="noStrike" u="sng">
              <a:solidFill>
                <a:srgbClr val="000000"/>
              </a:solidFill>
              <a:uFillTx/>
              <a:latin typeface="Bookman Old Style"/>
            </a:endParaRPr>
          </a:p>
          <a:p>
            <a:pPr marL="341280" indent="-3412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1" lang="en-US" sz="2600" spc="-1" strike="noStrike" u="sng">
              <a:solidFill>
                <a:srgbClr val="000000"/>
              </a:solidFill>
              <a:uFillTx/>
              <a:latin typeface="Bookman Old Style"/>
            </a:endParaRPr>
          </a:p>
          <a:p>
            <a:pPr marL="341280" indent="-341280" algn="ctr">
              <a:lnSpc>
                <a:spcPct val="90000"/>
              </a:lnSpc>
              <a:spcBef>
                <a:spcPts val="649"/>
              </a:spcBef>
              <a:buClr>
                <a:srgbClr val="1481b8"/>
              </a:buClr>
              <a:buFont typeface="Symbol" charset="2"/>
              <a:buChar char="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" sz="2600" spc="-1" strike="noStrike">
                <a:solidFill>
                  <a:srgbClr val="1481b8"/>
                </a:solidFill>
                <a:latin typeface="Bookman Old Style"/>
              </a:rPr>
              <a:t>Registro de auditores (inc. c)</a:t>
            </a:r>
            <a:endParaRPr b="1" lang="en-US" sz="2600" spc="-1" strike="noStrike" u="sng">
              <a:solidFill>
                <a:srgbClr val="000000"/>
              </a:solidFill>
              <a:uFillTx/>
              <a:latin typeface="Bookman Old Style"/>
            </a:endParaRPr>
          </a:p>
          <a:p>
            <a:pPr marL="341280" indent="-3412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1" lang="en-US" sz="2600" spc="-1" strike="noStrike" u="sng">
              <a:solidFill>
                <a:srgbClr val="000000"/>
              </a:solidFill>
              <a:uFillTx/>
              <a:latin typeface="Bookman Old Style"/>
            </a:endParaRPr>
          </a:p>
          <a:p>
            <a:pPr marL="341280" indent="-341280" algn="ctr">
              <a:lnSpc>
                <a:spcPct val="90000"/>
              </a:lnSpc>
              <a:spcBef>
                <a:spcPts val="649"/>
              </a:spcBef>
              <a:buClr>
                <a:srgbClr val="1481b8"/>
              </a:buClr>
              <a:buFont typeface="Symbol" charset="2"/>
              <a:buChar char="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" sz="2600" spc="-1" strike="noStrike">
                <a:solidFill>
                  <a:srgbClr val="1481b8"/>
                </a:solidFill>
                <a:latin typeface="Bookman Old Style"/>
              </a:rPr>
              <a:t>Anexo VI- Pautas de confección del Informe de Auditoria. (inc. d)</a:t>
            </a:r>
            <a:endParaRPr b="1" lang="en-US" sz="26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4211640" y="1628640"/>
            <a:ext cx="431640" cy="4753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123840 h 4753080"/>
              <a:gd name="textAreaBottom" fmla="*/ 4629240 h 475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30a483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212" name="5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1C16-9FF9-4FDB-BF41-2E965A107C0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dbffb7"/>
            </a:gs>
            <a:gs pos="100000">
              <a:srgbClr val="66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3567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414936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Arial"/>
              </a:rPr>
              <a:t>REALIZAR LAS 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CONSULTAS POR MESA DE AYUDA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46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3300"/>
                </a:solidFill>
                <a:latin typeface="Arial"/>
              </a:rPr>
              <a:t>PÁGINA DEL I.N.A.E.S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46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46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333300"/>
                </a:solidFill>
                <a:uFillTx/>
                <a:latin typeface="Arial"/>
                <a:hlinkClick r:id="rId1"/>
              </a:rPr>
              <a:t>WWW.INAES.GOV.AR</a:t>
            </a:r>
            <a:r>
              <a:rPr b="0" lang="es-ES_tradnl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46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7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8DEA-377E-484E-AA73-A515B1A810D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pic>
        <p:nvPicPr>
          <p:cNvPr id="338" name="Picture 4" descr="C:\Users\Public\Pictures\Sample Pictures\banner_plan_de_cuentas.jpg"/>
          <p:cNvPicPr/>
          <p:nvPr/>
        </p:nvPicPr>
        <p:blipFill>
          <a:blip r:embed="rId2"/>
          <a:stretch/>
        </p:blipFill>
        <p:spPr>
          <a:xfrm>
            <a:off x="428760" y="692280"/>
            <a:ext cx="82152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dbffb7"/>
            </a:gs>
            <a:gs pos="100000">
              <a:srgbClr val="66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00"/>
                </a:solidFill>
                <a:latin typeface="Arial"/>
              </a:rPr>
              <a:t>CONSULTAS FRECUENTES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483920"/>
            <a:ext cx="822960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RESULTA EXIGIBLE 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AÚN CUANDO EL SERVICIO DE AYUDA ECONÓMICA SEA POCO SIGNIFICATIVO.-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EL PLAN DE CUENTAS VIGENTE 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DEBE SER ADAPTADO AL MODELO.-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EL DÍGITO 2 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PARA EL RUBRO PASIVO DEBERÁ SER REEMPLAZADO POR EL DÍGITO 3.-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LA APERTURA EN CORRIENTE Y NO CORRIENTE 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ES SOLO PARA LA EXPOSICIÓN DELBALANC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NO SE CONTEMPLA NINGÚN TIPO DE DISPENSAS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SI LA ENTIDAD MUTUAL NO PRESTA EL S.A.E.M.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 DEBERÁ  DAR LA BAJA DEL REGLAMENTO MEDIANTE SU TRATAMIENTO  POR  ASAMBLEA DE ASOCIADOS YAPROBACION DE LA BAJA POR RESOLUCION DEL INAES.-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1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1543-202B-44B9-B917-0AE5CCE90B0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dbffb7"/>
            </a:gs>
            <a:gs pos="100000">
              <a:srgbClr val="66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es-ES" sz="4400" spc="-1" strike="noStrike">
                <a:solidFill>
                  <a:srgbClr val="003300"/>
                </a:solidFill>
                <a:latin typeface="Arial"/>
              </a:rPr>
              <a:t>NOVEDADE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343" name="Object 2"/>
          <p:cNvGraphicFramePr/>
          <p:nvPr/>
        </p:nvGraphicFramePr>
        <p:xfrm>
          <a:off x="736560" y="1785960"/>
          <a:ext cx="78138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85960"/>
                    <a:ext cx="78138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5720-6E66-443E-BF27-E4A84FF7C3B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dbffb7"/>
            </a:gs>
            <a:gs pos="100000">
              <a:srgbClr val="66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F44A-60C2-48CF-BC6B-ECC73E02BCA6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1760" y="188640"/>
            <a:ext cx="78483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Bodoni Bd BT"/>
              </a:rPr>
              <a:t>Res. Inaes N° 4110/2010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04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 algn="just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SzPct val="75000"/>
              <a:buFont typeface="Bodoni Bd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3300"/>
                </a:solidFill>
                <a:latin typeface="Bodoni Bd BT"/>
              </a:rPr>
              <a:t>Las entidades mutuales deben presentar la documentación contable, exigida por el Art. 19 y concordantes de la Ley 20321 y  resoluciones complementarias de la Autoridad de Contralor, en soporte papel del modo previsto en las citadas normas  y </a:t>
            </a:r>
            <a:r>
              <a:rPr b="1" lang="es-ES_tradnl" sz="3000" spc="-1" strike="noStrike" u="sng">
                <a:solidFill>
                  <a:srgbClr val="003300"/>
                </a:solidFill>
                <a:uFillTx/>
                <a:latin typeface="Bodoni Bd BT"/>
              </a:rPr>
              <a:t>efectuar la transmisión electronica de los datos surgidos de sus Estados Contables al sitio Web del Instituto Nacional de Asociativismo y Economía Social.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57276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3300"/>
                </a:solidFill>
                <a:latin typeface="Bodoni Bd BT"/>
              </a:rPr>
              <a:t>b) </a:t>
            </a:r>
            <a:r>
              <a:rPr b="1" lang="es-ES_tradnl" sz="3000" spc="-1" strike="noStrike">
                <a:solidFill>
                  <a:srgbClr val="ff0000"/>
                </a:solidFill>
                <a:latin typeface="Bodoni Bd BT"/>
              </a:rPr>
              <a:t>Aplicación para ejercicios sociales </a:t>
            </a:r>
            <a:r>
              <a:rPr b="1" lang="es-ES_tradnl" sz="3000" spc="-1" strike="noStrike" u="sng">
                <a:solidFill>
                  <a:srgbClr val="ff0000"/>
                </a:solidFill>
                <a:uFillTx/>
                <a:latin typeface="Bodoni Bd BT"/>
              </a:rPr>
              <a:t>cerrados al 31 de diciembre de 2010</a:t>
            </a:r>
            <a:r>
              <a:rPr b="1" lang="es-ES_tradnl" sz="3000" spc="-1" strike="noStrike">
                <a:solidFill>
                  <a:srgbClr val="ff0000"/>
                </a:solidFill>
                <a:latin typeface="Bodoni Bd BT"/>
              </a:rPr>
              <a:t>, </a:t>
            </a:r>
            <a:r>
              <a:rPr b="1" lang="es-ES_tradnl" sz="3000" spc="-1" strike="noStrike" u="sng">
                <a:solidFill>
                  <a:srgbClr val="ff0000"/>
                </a:solidFill>
                <a:uFillTx/>
                <a:latin typeface="Bodoni Bd BT"/>
              </a:rPr>
              <a:t>inclusive.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57276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1" marL="930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dbffb7"/>
            </a:gs>
            <a:gs pos="100000">
              <a:srgbClr val="66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BE08-5492-44E0-8D3C-191F48CFC38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4000" y="527040"/>
            <a:ext cx="793116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3300"/>
                </a:solidFill>
                <a:latin typeface="Bodoni Bd BT"/>
              </a:rPr>
              <a:t>Normas Técnica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560" y="685800"/>
            <a:ext cx="856908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3300"/>
                </a:solidFill>
                <a:latin typeface="Bodoni Bd BT"/>
              </a:rPr>
              <a:t>	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Bodoni Bd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3300"/>
                </a:solidFill>
                <a:latin typeface="Bodoni Bd BT"/>
              </a:rPr>
              <a:t>El aplicativo contempla la aplicación de la ResoluciónTécnica 25,  aprobada por la Junta de Gobierno de la Federación Argentina de Consejos Profesionales de Ciencias Económicas el 4 de Julio de 2008 (modificatoria de la R.T.11), </a:t>
            </a:r>
            <a:r>
              <a:rPr b="1" lang="es-AR" sz="3200" spc="-1" strike="noStrike">
                <a:solidFill>
                  <a:srgbClr val="ff0000"/>
                </a:solidFill>
                <a:latin typeface="Bodoni Bd BT"/>
              </a:rPr>
              <a:t>adoptada por el INAES según la Res. 1151 del 29/08/2002</a:t>
            </a:r>
            <a:r>
              <a:rPr b="1" lang="es-AR" sz="3200" spc="-1" strike="noStrike">
                <a:solidFill>
                  <a:srgbClr val="003300"/>
                </a:solidFill>
                <a:latin typeface="Bodoni Bd BT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3300"/>
                </a:solidFill>
                <a:latin typeface="Bodoni Bd BT"/>
              </a:rPr>
              <a:t>b) </a:t>
            </a:r>
            <a:r>
              <a:rPr b="1" lang="es-AR" sz="3200" spc="-1" strike="noStrike">
                <a:solidFill>
                  <a:srgbClr val="ff0000"/>
                </a:solidFill>
                <a:latin typeface="Bodoni Bd BT"/>
              </a:rPr>
              <a:t>La R.T. 25, tuvo </a:t>
            </a:r>
            <a:r>
              <a:rPr b="1" lang="es-AR" sz="3200" spc="-1" strike="noStrike" u="sng">
                <a:solidFill>
                  <a:srgbClr val="ff0000"/>
                </a:solidFill>
                <a:uFillTx/>
                <a:latin typeface="Bodoni Bd BT"/>
              </a:rPr>
              <a:t>vigencia a partir del 1ro. de enero de 2009</a:t>
            </a:r>
            <a:r>
              <a:rPr b="1" lang="es-AR" sz="3200" spc="-1" strike="noStrike">
                <a:solidFill>
                  <a:srgbClr val="ff0000"/>
                </a:solidFill>
                <a:latin typeface="Bodoni Bd BT"/>
              </a:rPr>
              <a:t>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dbffb7"/>
            </a:gs>
            <a:gs pos="100000">
              <a:srgbClr val="66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D0E4-8D9E-4ABC-98AA-9A98091F820C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00"/>
                </a:solidFill>
                <a:latin typeface="Bodoni Bd BT"/>
              </a:rPr>
              <a:t>	</a:t>
            </a:r>
            <a:r>
              <a:rPr b="1" lang="es-MX" sz="4400" spc="-1" strike="noStrike">
                <a:solidFill>
                  <a:srgbClr val="003300"/>
                </a:solidFill>
                <a:latin typeface="Bodoni Bd BT"/>
              </a:rPr>
              <a:t>	</a:t>
            </a:r>
            <a:r>
              <a:rPr b="1" lang="es-MX" sz="4400" spc="-1" strike="noStrike">
                <a:solidFill>
                  <a:srgbClr val="003300"/>
                </a:solidFill>
                <a:latin typeface="Bodoni Bd BT"/>
              </a:rPr>
              <a:t>	</a:t>
            </a:r>
            <a:r>
              <a:rPr b="1" lang="es-MX" sz="4400" spc="-1" strike="noStrike">
                <a:solidFill>
                  <a:srgbClr val="003300"/>
                </a:solidFill>
                <a:latin typeface="Bodoni Bd BT"/>
              </a:rPr>
              <a:t>Objetivo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29840" y="126792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3300"/>
                </a:solidFill>
                <a:uFillTx/>
                <a:latin typeface="Bodoni Bd BT"/>
              </a:rPr>
              <a:t>La carga de datos vía Web: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Bodoni Bd BT"/>
              </a:rPr>
              <a:t>Facilita y mejora el control interno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Bodoni Bd BT"/>
              </a:rPr>
              <a:t>Posibilita ver la situación  general de las entidades tomando conocimiento de su desempeño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Bodoni Bd BT"/>
              </a:rPr>
              <a:t>Permite lacalificación mediante el análisis de su solvencia económico-financiera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3300"/>
                </a:solidFill>
                <a:latin typeface="Bodoni Bd BT"/>
              </a:rPr>
              <a:t>Refuerza</a:t>
            </a:r>
            <a:r>
              <a:rPr b="1" lang="en-US" sz="3200" spc="-1" strike="noStrike">
                <a:solidFill>
                  <a:srgbClr val="003300"/>
                </a:solidFill>
                <a:latin typeface="Bodoni Bd BT"/>
              </a:rPr>
              <a:t> la planificación de políticas para el sector a través de los datos aportados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3300"/>
                </a:solidFill>
                <a:latin typeface="Bodoni Bd BT"/>
              </a:rPr>
              <a:t>Beneficia</a:t>
            </a:r>
            <a:r>
              <a:rPr b="1" lang="en-US" sz="3200" spc="-1" strike="noStrike">
                <a:solidFill>
                  <a:srgbClr val="003300"/>
                </a:solidFill>
                <a:latin typeface="Bodoni Bd BT"/>
              </a:rPr>
              <a:t> la elaboración de estadísticas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dbffb7"/>
            </a:gs>
            <a:gs pos="100000">
              <a:srgbClr val="66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"/>
          <p:cNvSpPr/>
          <p:nvPr/>
        </p:nvSpPr>
        <p:spPr>
          <a:xfrm>
            <a:off x="324000" y="1141560"/>
            <a:ext cx="87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300" spc="-1" strike="noStrike" u="sng">
                <a:solidFill>
                  <a:srgbClr val="1f5281"/>
                </a:solidFill>
                <a:uFillTx/>
                <a:latin typeface="Bookman Old Style"/>
              </a:rPr>
              <a:t>Servicio de Ayuda Económica Mutual</a:t>
            </a:r>
            <a:endParaRPr b="1" lang="en-US" sz="33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3995640" y="2122560"/>
            <a:ext cx="475308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1360" indent="-353880"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441360"/>
                <a:tab algn="l" pos="1355760"/>
                <a:tab algn="l" pos="2270160"/>
                <a:tab algn="l" pos="3184560"/>
                <a:tab algn="l" pos="4098960"/>
                <a:tab algn="l" pos="5013360"/>
                <a:tab algn="l" pos="5927760"/>
                <a:tab algn="l" pos="6842160"/>
                <a:tab algn="l" pos="7756560"/>
                <a:tab algn="l" pos="8670960"/>
                <a:tab algn="l" pos="9585360"/>
                <a:tab algn="l" pos="10499760"/>
              </a:tabLst>
            </a:pPr>
            <a:endParaRPr b="1" lang="en-US" sz="900" spc="-1" strike="noStrike" u="sng">
              <a:solidFill>
                <a:srgbClr val="000000"/>
              </a:solidFill>
              <a:uFillTx/>
              <a:latin typeface="Bookman Old Style"/>
            </a:endParaRPr>
          </a:p>
          <a:p>
            <a:pPr marL="441360" indent="-353880" algn="ctr">
              <a:lnSpc>
                <a:spcPct val="145000"/>
              </a:lnSpc>
              <a:spcBef>
                <a:spcPts val="726"/>
              </a:spcBef>
              <a:buClr>
                <a:srgbClr val="1481b8"/>
              </a:buClr>
              <a:buFont typeface="Wingdings" charset="2"/>
              <a:buChar char=""/>
              <a:tabLst>
                <a:tab algn="l" pos="441360"/>
                <a:tab algn="l" pos="1355760"/>
                <a:tab algn="l" pos="2270160"/>
                <a:tab algn="l" pos="3184560"/>
                <a:tab algn="l" pos="4098960"/>
                <a:tab algn="l" pos="5013360"/>
                <a:tab algn="l" pos="5927760"/>
                <a:tab algn="l" pos="6842160"/>
                <a:tab algn="l" pos="7756560"/>
                <a:tab algn="l" pos="8670960"/>
                <a:tab algn="l" pos="9585360"/>
                <a:tab algn="l" pos="10499760"/>
              </a:tabLst>
            </a:pPr>
            <a:r>
              <a:rPr b="1" i="1" lang="es-ES" sz="2900" spc="-1" strike="noStrike">
                <a:solidFill>
                  <a:srgbClr val="ff0000"/>
                </a:solidFill>
                <a:latin typeface="Georgia"/>
              </a:rPr>
              <a:t>Disposición  Nº 18/09 – art:1º</a:t>
            </a:r>
            <a:endParaRPr b="1" lang="en-US" sz="2900" spc="-1" strike="noStrike" u="sng">
              <a:solidFill>
                <a:srgbClr val="000000"/>
              </a:solidFill>
              <a:uFillTx/>
              <a:latin typeface="Bookman Old Style"/>
            </a:endParaRPr>
          </a:p>
          <a:p>
            <a:pPr marL="441360" indent="-353880" algn="ctr">
              <a:lnSpc>
                <a:spcPct val="145000"/>
              </a:lnSpc>
              <a:spcBef>
                <a:spcPts val="726"/>
              </a:spcBef>
              <a:tabLst>
                <a:tab algn="l" pos="0"/>
                <a:tab algn="l" pos="441360"/>
                <a:tab algn="l" pos="1355760"/>
                <a:tab algn="l" pos="2270160"/>
                <a:tab algn="l" pos="3184560"/>
                <a:tab algn="l" pos="4098960"/>
                <a:tab algn="l" pos="5013360"/>
                <a:tab algn="l" pos="5927760"/>
                <a:tab algn="l" pos="6842160"/>
                <a:tab algn="l" pos="7756560"/>
                <a:tab algn="l" pos="8670960"/>
                <a:tab algn="l" pos="9585360"/>
                <a:tab algn="l" pos="10499760"/>
              </a:tabLst>
            </a:pPr>
            <a:r>
              <a:rPr b="1" i="1" lang="es-ES" sz="2900" spc="-1" strike="noStrike">
                <a:solidFill>
                  <a:srgbClr val="1481b8"/>
                </a:solidFill>
                <a:latin typeface="Georgia"/>
              </a:rPr>
              <a:t>    </a:t>
            </a:r>
            <a:r>
              <a:rPr b="1" i="1" lang="es-ES" sz="2900" spc="-1" strike="noStrike">
                <a:solidFill>
                  <a:srgbClr val="1481b8"/>
                </a:solidFill>
                <a:latin typeface="Georgia"/>
              </a:rPr>
              <a:t>Aprueba: instructivo – tutorial para la transferencia electrónica de datos</a:t>
            </a:r>
            <a:endParaRPr b="1" lang="en-US" sz="29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324000" y="2438280"/>
            <a:ext cx="3816360" cy="3673440"/>
          </a:xfrm>
          <a:prstGeom prst="rect">
            <a:avLst/>
          </a:prstGeom>
          <a:ln w="0">
            <a:noFill/>
          </a:ln>
        </p:spPr>
      </p:pic>
      <p:sp>
        <p:nvSpPr>
          <p:cNvPr id="216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BD14-DC18-4F6C-8DDF-DC93888519C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dbffb7"/>
            </a:gs>
            <a:gs pos="100000">
              <a:srgbClr val="66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1"/>
          <p:cNvSpPr/>
          <p:nvPr/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Bookman Old Style"/>
              </a:rPr>
              <a:t>Res.1418/03 – 2773/08</a:t>
            </a:r>
            <a:endParaRPr b="1" lang="en-US" sz="32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179280" y="1521000"/>
            <a:ext cx="3313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1" lang="en-US" sz="2200" spc="-1" strike="noStrike" u="sng">
              <a:solidFill>
                <a:srgbClr val="000000"/>
              </a:solidFill>
              <a:uFillTx/>
              <a:latin typeface="Bookman Old Style"/>
            </a:endParaRPr>
          </a:p>
          <a:p>
            <a:pPr marL="341280" indent="-341280" algn="ctr"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1" lang="en-US" sz="2200" spc="-1" strike="noStrike" u="sng">
              <a:solidFill>
                <a:srgbClr val="000000"/>
              </a:solidFill>
              <a:uFillTx/>
              <a:latin typeface="Bookman Old Style"/>
            </a:endParaRPr>
          </a:p>
          <a:p>
            <a:pPr marL="341280" indent="-341280" algn="ctr"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1" lang="en-US" sz="2200" spc="-1" strike="noStrike" u="sng">
              <a:solidFill>
                <a:srgbClr val="000000"/>
              </a:solidFill>
              <a:uFillTx/>
              <a:latin typeface="Bookman Old Style"/>
            </a:endParaRPr>
          </a:p>
          <a:p>
            <a:pPr marL="341280" indent="-341280" algn="ctr">
              <a:spcBef>
                <a:spcPts val="876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" sz="3500" spc="-1" strike="noStrike">
                <a:solidFill>
                  <a:srgbClr val="1481b8"/>
                </a:solidFill>
                <a:latin typeface="Bookman Old Style"/>
              </a:rPr>
              <a:t>Registro de Auditores            (art. 17, inc. c)</a:t>
            </a:r>
            <a:endParaRPr b="1" lang="en-US" sz="35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4398840" y="2054160"/>
            <a:ext cx="42768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726"/>
              </a:spcBef>
              <a:buSzPct val="10291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" sz="2900" spc="-1" strike="noStrike" u="sng">
                <a:solidFill>
                  <a:srgbClr val="1f5281"/>
                </a:solidFill>
                <a:uFillTx/>
                <a:latin typeface="Arial"/>
              </a:rPr>
              <a:t>Solicitud por escrito</a:t>
            </a:r>
            <a:endParaRPr b="1" lang="en-US" sz="2900" spc="-1" strike="noStrike" u="sng">
              <a:solidFill>
                <a:srgbClr val="000000"/>
              </a:solidFill>
              <a:uFillTx/>
              <a:latin typeface="Bookman Old Style"/>
            </a:endParaRPr>
          </a:p>
          <a:p>
            <a:pPr marL="341280" indent="-3412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1" lang="en-US" sz="3000" spc="-1" strike="noStrike" u="sng">
              <a:solidFill>
                <a:srgbClr val="000000"/>
              </a:solidFill>
              <a:uFillTx/>
              <a:latin typeface="Bookman Old Style"/>
            </a:endParaRPr>
          </a:p>
          <a:p>
            <a:pPr marL="341280" indent="-341280" algn="ctr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Bookman Old Style"/>
            </a:endParaRPr>
          </a:p>
          <a:p>
            <a:pPr marL="341280" indent="-341280" algn="ctr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3059280" y="2133720"/>
            <a:ext cx="502920" cy="431640"/>
          </a:xfrm>
          <a:prstGeom prst="rightArrow">
            <a:avLst>
              <a:gd name="adj1" fmla="val 50000"/>
              <a:gd name="adj2" fmla="val 29128"/>
            </a:avLst>
          </a:prstGeom>
          <a:solidFill>
            <a:srgbClr val="ff9900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4427640" y="2997360"/>
            <a:ext cx="446544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SzPct val="102919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 u="sng">
                <a:solidFill>
                  <a:srgbClr val="1f5281"/>
                </a:solidFill>
                <a:uFillTx/>
                <a:latin typeface="Arial"/>
              </a:rPr>
              <a:t> </a:t>
            </a:r>
            <a:r>
              <a:rPr b="1" lang="es-ES" sz="2900" spc="-1" strike="noStrike" u="sng">
                <a:solidFill>
                  <a:srgbClr val="1f5281"/>
                </a:solidFill>
                <a:uFillTx/>
                <a:latin typeface="Arial"/>
              </a:rPr>
              <a:t>Datos del profesional</a:t>
            </a:r>
            <a:r>
              <a:rPr b="1" lang="es-ES" sz="3000" spc="-1" strike="noStrike" u="sng">
                <a:solidFill>
                  <a:srgbClr val="1f5281"/>
                </a:solidFill>
                <a:uFillTx/>
                <a:latin typeface="Arial"/>
              </a:rPr>
              <a:t> </a:t>
            </a:r>
            <a:r>
              <a:rPr b="1" lang="es-ES" sz="2000" spc="-1" strike="noStrike">
                <a:solidFill>
                  <a:srgbClr val="1f5281"/>
                </a:solidFill>
                <a:latin typeface="Arial"/>
              </a:rPr>
              <a:t>* </a:t>
            </a:r>
            <a:r>
              <a:rPr b="1" lang="es-ES" sz="2400" spc="-1" strike="noStrike">
                <a:solidFill>
                  <a:srgbClr val="1f5281"/>
                </a:solidFill>
                <a:latin typeface="Arial"/>
              </a:rPr>
              <a:t>nombre – apellido</a:t>
            </a:r>
            <a:endParaRPr b="1" lang="en-US" sz="2400" spc="-1" strike="noStrike" u="sng">
              <a:solidFill>
                <a:srgbClr val="000000"/>
              </a:solidFill>
              <a:uFillTx/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f5281"/>
                </a:solidFill>
                <a:latin typeface="Arial"/>
              </a:rPr>
              <a:t>* matrícula profesional</a:t>
            </a:r>
            <a:endParaRPr b="1" lang="en-US" sz="2400" spc="-1" strike="noStrike" u="sng">
              <a:solidFill>
                <a:srgbClr val="000000"/>
              </a:solidFill>
              <a:uFillTx/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f5281"/>
                </a:solidFill>
                <a:latin typeface="Arial"/>
              </a:rPr>
              <a:t>* C.U.I.T.</a:t>
            </a:r>
            <a:endParaRPr b="1" lang="en-US" sz="2400" spc="-1" strike="noStrike" u="sng">
              <a:solidFill>
                <a:srgbClr val="000000"/>
              </a:solidFill>
              <a:uFillTx/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f5281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1f5281"/>
                </a:solidFill>
                <a:latin typeface="Arial"/>
              </a:rPr>
              <a:t>* dirección; teléfono y       </a:t>
            </a:r>
            <a:r>
              <a:rPr b="1" lang="es-ES" sz="2400" spc="-1" strike="noStrike">
                <a:solidFill>
                  <a:srgbClr val="1f5281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1f5281"/>
                </a:solidFill>
                <a:latin typeface="Arial"/>
              </a:rPr>
              <a:t>mail.-</a:t>
            </a:r>
            <a:endParaRPr b="1" lang="en-US" sz="2400" spc="-1" strike="noStrike" u="sng">
              <a:solidFill>
                <a:srgbClr val="000000"/>
              </a:solidFill>
              <a:uFillTx/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UNA POR CADA C.P.C.E</a:t>
            </a:r>
            <a:r>
              <a:rPr b="1" lang="es-AR" sz="2400" spc="-1" strike="noStrike">
                <a:solidFill>
                  <a:srgbClr val="1f5281"/>
                </a:solidFill>
                <a:latin typeface="Arial"/>
              </a:rPr>
              <a:t>.</a:t>
            </a:r>
            <a:endParaRPr b="1" lang="en-US" sz="24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222" name="AutoShape 6"/>
          <p:cNvSpPr/>
          <p:nvPr/>
        </p:nvSpPr>
        <p:spPr>
          <a:xfrm>
            <a:off x="3132000" y="3716280"/>
            <a:ext cx="505080" cy="432000"/>
          </a:xfrm>
          <a:prstGeom prst="rightArrow">
            <a:avLst>
              <a:gd name="adj1" fmla="val 50000"/>
              <a:gd name="adj2" fmla="val 29229"/>
            </a:avLst>
          </a:prstGeom>
          <a:solidFill>
            <a:srgbClr val="ff9900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223" name="7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AB80-FC1C-4F56-BEE4-78B61BAA8B2C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 -7 3.46821 -6 L 0.13802 3.46821 -6">
                                      <p:cBhvr>
                                        <p:cTn id="21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 -6 L 3.23699 -6 L 0.12986 0.00023 E">
                                      <p:cBhvr>
                                        <p:cTn id="31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dbffb7"/>
            </a:gs>
            <a:gs pos="100000">
              <a:srgbClr val="66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Bookman Old Style"/>
              </a:rPr>
              <a:t>Res.1418/03- 2773/08</a:t>
            </a:r>
            <a:endParaRPr b="1" lang="en-US" sz="32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108000" y="1665360"/>
            <a:ext cx="3060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1" lang="en-US" sz="2200" spc="-1" strike="noStrike" u="sng">
              <a:solidFill>
                <a:srgbClr val="000000"/>
              </a:solidFill>
              <a:uFillTx/>
              <a:latin typeface="Bookman Old Style"/>
            </a:endParaRPr>
          </a:p>
          <a:p>
            <a:pPr marL="341280" indent="-341280" algn="ctr"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1" lang="en-US" sz="2200" spc="-1" strike="noStrike" u="sng">
              <a:solidFill>
                <a:srgbClr val="000000"/>
              </a:solidFill>
              <a:uFillTx/>
              <a:latin typeface="Bookman Old Style"/>
            </a:endParaRPr>
          </a:p>
          <a:p>
            <a:pPr marL="341280" indent="-341280" algn="ctr">
              <a:spcBef>
                <a:spcPts val="8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1" lang="en-US" sz="3300" spc="-1" strike="noStrike" u="sng">
              <a:solidFill>
                <a:srgbClr val="000000"/>
              </a:solidFill>
              <a:uFillTx/>
              <a:latin typeface="Bookman Old Style"/>
            </a:endParaRPr>
          </a:p>
          <a:p>
            <a:pPr marL="341280" indent="-341280" algn="ctr">
              <a:spcBef>
                <a:spcPts val="825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s-ES" sz="3300" spc="-1" strike="noStrike">
                <a:solidFill>
                  <a:srgbClr val="ff0000"/>
                </a:solidFill>
                <a:latin typeface="Bookman Old Style"/>
              </a:rPr>
              <a:t>Anexo VI- Art.: 17</a:t>
            </a:r>
            <a:endParaRPr b="1" lang="en-US" sz="33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3635280" y="1335240"/>
            <a:ext cx="5400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1720" indent="-531720">
              <a:spcBef>
                <a:spcPts val="649"/>
              </a:spcBef>
              <a:buClr>
                <a:srgbClr val="1481b8"/>
              </a:buClr>
              <a:buFont typeface="Bookman Old Style"/>
              <a:buAutoNum type="arabicParenR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</a:tabLst>
            </a:pPr>
            <a:r>
              <a:rPr b="1" lang="es-ES" sz="2600" spc="-1" strike="noStrike">
                <a:solidFill>
                  <a:srgbClr val="1481b8"/>
                </a:solidFill>
                <a:latin typeface="Bookman Old Style"/>
              </a:rPr>
              <a:t>Procedimientos mínimos para la emisión de informes especiales</a:t>
            </a:r>
            <a:endParaRPr b="1" lang="en-US" sz="2600" spc="-1" strike="noStrike" u="sng">
              <a:solidFill>
                <a:srgbClr val="000000"/>
              </a:solidFill>
              <a:uFillTx/>
              <a:latin typeface="Bookman Old Style"/>
            </a:endParaRPr>
          </a:p>
          <a:p>
            <a:pPr marL="531720" indent="-531720">
              <a:spcBef>
                <a:spcPts val="649"/>
              </a:spcBef>
              <a:buClr>
                <a:srgbClr val="1481b8"/>
              </a:buClr>
              <a:buFont typeface="Bookman Old Style"/>
              <a:buAutoNum type="arabicParenR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</a:tabLst>
            </a:pPr>
            <a:r>
              <a:rPr b="1" lang="es-ES" sz="2600" spc="-1" strike="noStrike">
                <a:solidFill>
                  <a:srgbClr val="1481b8"/>
                </a:solidFill>
                <a:latin typeface="Bookman Old Style"/>
              </a:rPr>
              <a:t>Normas de auditoría </a:t>
            </a:r>
            <a:endParaRPr b="1" lang="en-US" sz="2600" spc="-1" strike="noStrike" u="sng">
              <a:solidFill>
                <a:srgbClr val="000000"/>
              </a:solidFill>
              <a:uFillTx/>
              <a:latin typeface="Bookman Old Style"/>
            </a:endParaRPr>
          </a:p>
          <a:p>
            <a:pPr marL="531720" indent="-531720">
              <a:spcBef>
                <a:spcPts val="649"/>
              </a:spcBef>
              <a:buClr>
                <a:srgbClr val="1481b8"/>
              </a:buClr>
              <a:buFont typeface="Bookman Old Style"/>
              <a:buAutoNum type="arabicParenR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</a:tabLst>
            </a:pPr>
            <a:r>
              <a:rPr b="1" lang="es-ES" sz="2600" spc="-1" strike="noStrike">
                <a:solidFill>
                  <a:srgbClr val="1481b8"/>
                </a:solidFill>
                <a:latin typeface="Bookman Old Style"/>
              </a:rPr>
              <a:t>Normas de presentación del informe especial</a:t>
            </a:r>
            <a:endParaRPr b="1" lang="en-US" sz="2600" spc="-1" strike="noStrike" u="sng">
              <a:solidFill>
                <a:srgbClr val="000000"/>
              </a:solidFill>
              <a:uFillTx/>
              <a:latin typeface="Bookman Old Style"/>
            </a:endParaRPr>
          </a:p>
          <a:p>
            <a:pPr marL="531720" indent="-531720">
              <a:spcBef>
                <a:spcPts val="649"/>
              </a:spcBef>
              <a:buClr>
                <a:srgbClr val="1481b8"/>
              </a:buClr>
              <a:buFont typeface="Bookman Old Style"/>
              <a:buAutoNum type="arabicParenR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</a:tabLst>
            </a:pPr>
            <a:r>
              <a:rPr b="1" lang="es-ES" sz="2600" spc="-1" strike="noStrike">
                <a:solidFill>
                  <a:srgbClr val="1481b8"/>
                </a:solidFill>
                <a:latin typeface="Bookman Old Style"/>
              </a:rPr>
              <a:t>Características del informe especial</a:t>
            </a:r>
            <a:endParaRPr b="1" lang="en-US" sz="2600" spc="-1" strike="noStrike" u="sng">
              <a:solidFill>
                <a:srgbClr val="000000"/>
              </a:solidFill>
              <a:uFillTx/>
              <a:latin typeface="Bookman Old Style"/>
            </a:endParaRPr>
          </a:p>
          <a:p>
            <a:pPr marL="531720" indent="-531720">
              <a:spcBef>
                <a:spcPts val="649"/>
              </a:spcBef>
              <a:buClr>
                <a:srgbClr val="1481b8"/>
              </a:buClr>
              <a:buFont typeface="Bookman Old Style"/>
              <a:buAutoNum type="arabicParenR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</a:tabLst>
            </a:pPr>
            <a:r>
              <a:rPr b="1" lang="es-ES" sz="2600" spc="-1" strike="noStrike">
                <a:solidFill>
                  <a:srgbClr val="1481b8"/>
                </a:solidFill>
                <a:latin typeface="Bookman Old Style"/>
              </a:rPr>
              <a:t>Carta de recomendaciones</a:t>
            </a:r>
            <a:endParaRPr b="1" lang="en-US" sz="2600" spc="-1" strike="noStrike" u="sng">
              <a:solidFill>
                <a:srgbClr val="000000"/>
              </a:solidFill>
              <a:uFillTx/>
              <a:latin typeface="Bookman Old Style"/>
            </a:endParaRPr>
          </a:p>
          <a:p>
            <a:pPr marL="531720" indent="-531720">
              <a:spcBef>
                <a:spcPts val="649"/>
              </a:spcBef>
              <a:buClr>
                <a:srgbClr val="1481b8"/>
              </a:buClr>
              <a:buFont typeface="Bookman Old Style"/>
              <a:buAutoNum type="arabicParenR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</a:tabLst>
            </a:pPr>
            <a:r>
              <a:rPr b="1" lang="es-ES" sz="2600" spc="-1" strike="noStrike">
                <a:solidFill>
                  <a:srgbClr val="1481b8"/>
                </a:solidFill>
                <a:latin typeface="Bookman Old Style"/>
              </a:rPr>
              <a:t>Otras obligaciones de la Auditoria Externa</a:t>
            </a:r>
            <a:endParaRPr b="1" lang="en-US" sz="26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3060720" y="1628640"/>
            <a:ext cx="431640" cy="4753080"/>
          </a:xfrm>
          <a:custGeom>
            <a:avLst/>
            <a:gdLst>
              <a:gd name="textAreaLeft" fmla="*/ 0 w 431640"/>
              <a:gd name="textAreaRight" fmla="*/ 155880 w 431640"/>
              <a:gd name="textAreaTop" fmla="*/ 123840 h 4753080"/>
              <a:gd name="textAreaBottom" fmla="*/ 4629240 h 475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30a483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228" name="5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2611-8C9C-4A01-A2C9-260B42FF0BF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dbffb7"/>
            </a:gs>
            <a:gs pos="100000">
              <a:srgbClr val="66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1619280" y="280188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 u="sng">
                <a:solidFill>
                  <a:srgbClr val="1f5281"/>
                </a:solidFill>
                <a:uFillTx/>
                <a:latin typeface="Arial"/>
              </a:rPr>
              <a:t>Reglamentos</a:t>
            </a:r>
            <a:endParaRPr b="1" lang="en-US" sz="54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  <p:sp>
        <p:nvSpPr>
          <p:cNvPr id="230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7156-7775-43E7-ABDA-006BB56B9B7C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Bookman Old Style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dbffb7"/>
            </a:gs>
            <a:gs pos="100000">
              <a:srgbClr val="66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4920" y="1267920"/>
            <a:ext cx="8381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ff"/>
                </a:solidFill>
                <a:latin typeface="Times New Roman"/>
              </a:rPr>
              <a:t>ERRORES MAS COMUNES EN LA CONFECCION DE LA DOCUMENTACION NECESARIA PARA LA PRESENTACION DE LOS REGLAMENTOS ANTE EL ORGANISMO DE CONTRALOR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611280" y="4797000"/>
            <a:ext cx="80769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99ccff"/>
                </a:solidFill>
                <a:latin typeface="Arial"/>
              </a:rPr>
              <a:t>Resolución 1.418/03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99ccff"/>
                </a:solidFill>
                <a:latin typeface="Arial"/>
              </a:rPr>
              <a:t>(INAES)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dbffb7"/>
            </a:gs>
            <a:gs pos="100000">
              <a:srgbClr val="66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La no presentación de toda la documentación simultáneamente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Falta de presentación de un estado patrimonial y de resultados desde la fecha de cierre del ejercicio hasta el mes anterior a su presentación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n caso de adecuación a la Res. 1418/03 no acompañar el texto completo reformado junto con el ACTA DE COMISION DIRECTIVA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Tratarlo en ASAMBLEA CONSTITUTIVA cuando es un requisito contar con un año de antigüedad en la matrícula: </a:t>
            </a:r>
            <a:r>
              <a:rPr b="0" lang="es-AR" sz="2800" spc="-1" strike="noStrike" u="sng">
                <a:solidFill>
                  <a:srgbClr val="ffffff"/>
                </a:solidFill>
                <a:uFillTx/>
                <a:latin typeface="Arial"/>
              </a:rPr>
              <a:t>lo cual demora el otorgamiento de la matrícula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9:21:18Z</dcterms:created>
  <dc:creator>walterm</dc:creator>
  <dc:description/>
  <dc:language>en-US</dc:language>
  <cp:lastModifiedBy>olopez</cp:lastModifiedBy>
  <dcterms:modified xsi:type="dcterms:W3CDTF">2011-09-13T20:28:29Z</dcterms:modified>
  <cp:revision>232</cp:revision>
  <dc:subject/>
  <dc:title>PowerPoint Template</dc:title>
</cp:coreProperties>
</file>